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512DB-72E1-4DD6-AFBE-C73FCD042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70B65-64CC-4568-98D4-6F952B281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FF91001-4181-46D7-8E16-3AEAFBFC2EE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5DC5385-1186-4321-8CCD-590735520B0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A59269A-ECD6-40DF-8194-00016D2AE31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E97040D-B2F2-4ECB-BAD6-0B0D6C785C7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0AB7A75-3FCE-48D3-9DA9-2F5D312B2B2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C890E49-5FD5-4A1F-AB6A-4949DC14B6B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02B14CC-8DC8-46ED-8824-2193C8673DB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0056B7A7-A066-4E9A-B90D-302F974EC97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F915A0B0-216D-42F7-90F5-90E5A4AC2DF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7B6EC480-B488-4B9D-ABF3-719144844C2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6C97BE-B61B-40C6-A33C-85950D156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2C30D16-2A2C-4AD5-A476-D92BED3B43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CDCFCDF-B700-412A-B8D4-C8B32C82C7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9F2ED23-C52C-4FC7-A612-5E6773509A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0618531-4789-47CD-888C-FC3F78A53E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A09FC49-BCFC-4E2D-AF1E-4628193110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BCAC268-1BAB-49BA-9CEE-9108331716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7BBD9C7-59F9-4E7E-86A0-7778656F1A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33B69CC-CF99-448E-8D0E-D1861B598C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75F564E-602B-4042-9603-5A1DE358FB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821BCDE7-C04C-48BA-AFB0-72B0E14E2A1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03BBCE-37F0-4829-A381-48EB280FC7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D6A8848B-36B5-49C5-A88E-37EBF88AC91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7FCF288-A3DD-4CE9-9ED2-D15B3B32F26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2039B2B-1FDF-451E-8C12-AB6BB4F2524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19B5556-DA4B-4737-8C3B-4C1DA5599AC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6926EB7-3F12-400C-8E21-8DB0D4A5BA2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7211FD8-B7F8-4845-AEC6-2744FE0E74B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7ED09D7-A74B-46E6-8614-63795AF70DD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FC21B07-8C2B-4B8C-9E98-5268DA25DDD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684D01-4560-474C-BB09-2AAA939F3C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05E631-8EF9-4997-BDB3-82DD344CC8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8B875A-43F7-4ADE-865E-07204CFF3B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BB67983-FE7C-4003-91C1-2C81A539E22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254C93B-E8E6-4E4E-B361-3380CFDC0A3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7FC1B83-387F-464F-98E9-2ED8ABD4135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AE5B66C7-1C4C-4C93-8F34-5DD82600B7F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7245498-6C74-4EBE-A959-8FB03B2866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8B7DA8F-5CAF-481D-895C-BA65EB7182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6B061D9-2276-4F32-B2B6-9A0A7D6838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3F0B36E-14FA-4CDB-B807-B7DFA697CB0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B524669-F1D3-4562-BAE8-34EC031E5B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56972EB-4E47-4813-ADD5-701C798A05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1695FE-1EC9-4CA5-A01E-48EDFA5A2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58111ED-DC56-4FFF-ADAE-6F123024F1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D4D2CEE-363B-461A-8685-F34FFB38C8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A9C7F0C-2AE7-4A65-9BBF-4530552111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390F90CE-2D6F-4A01-BD11-A1AC1593F6F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AFCEDEF5-1601-42FF-98F6-799499F9BC1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1AB6B4-DB7C-48C4-9B14-4DDFC235A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0F9382-1072-4037-A204-E0C17E95AF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A85CC2-D5BD-4139-A5C1-2C5759E31E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2E3D8A-2A77-40F1-93E0-783C38DC3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A20F8-3464-4AB5-9E23-CDF592BAE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7BA1C-B341-4A51-8907-748F2DF80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7E544-EA4C-4586-B8F5-3FACD989E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5D476-69E2-4F2E-9B95-3BE573A1F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19B4A0-A3EE-4E67-BEF7-87BD7CC6B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34E5A3-F37B-48E6-B914-A7F5FB7D74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4F438E-42C0-429C-94D7-099DD415EF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4A5D4B-A5FE-45F3-A83D-E205D7CB13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C1CA36-FE93-49D1-B298-31BD65EE4C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E250AA-4B3A-4D1A-9541-55DB244B00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179E15-CBCF-48CC-8F33-7CBDD134D6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59C098-AB4A-48EC-87F2-5661CD69FB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97A13-33A5-407F-ADDD-0B222C806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0CE075-0A06-4019-92E0-A05C8D2F1B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C8EAEA-674A-412C-B296-8972BEDD00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6647BA-2DE6-4A84-9E11-E0B870B4F6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E0EB9A-7CB5-4279-AF78-C9AC3DA20C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7DB747-6274-4F4C-853F-5CBCB0CD0E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E0FF5F-7D1B-422B-9D77-5FFFF3EE53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2C7808-42CA-4343-99FB-8746B37221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06088514-943C-4740-BBF1-4010D81DAF1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D18E23D-1CA8-4EF9-B1EF-248BF47AFFD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F090DF4-3A89-44A4-8C7E-E3BEB418B47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A38A2-56F6-4D6B-9EA2-3DCB61817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99768C9-1C9B-476F-BA15-EEB5D5534C7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094AB8D-71BB-45B6-8CEB-383595BA323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C74CA49-3CD1-4193-B856-4DED73CB4D2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4D166D3-2097-4279-B394-1F035D211D6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4520C02-8BB8-4C26-A2A7-4F3BB3AE8B8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B262EF9-EE8E-4723-ACFB-84ED7AF333E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75460F0-A3CA-4FD0-9E44-B6619312B3E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8049D89C-A627-47E3-AC24-486E4BECE92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6233D01E-8994-44C8-B6AF-ED93796C794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EC9A90-D40D-4C4B-8BDA-A97C7B534E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9C6D8-A5E8-42B6-BE39-0B2171CA4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1E22BA-8C74-46D0-AF08-3AB212392E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6A29EA-52FC-47A7-976D-2D4DD7EE71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E9617B-546C-4F25-A3DD-A45F1C1F0C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FC7F60-87C8-485E-A8A7-A234E8FABB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468121-2759-466C-992D-0814F7660F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E24D2C-24B3-45AE-A29A-6E070EFB68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B8A01F-6B7F-4C8B-ACD5-9F5A3A4FF4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531491-F534-4F7B-A78C-39D98B7381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7767FB-ECF4-4A61-99D8-060AFDE5F0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95B539-AEFF-43D0-8FB1-0105C1AD8A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87787-768D-4BA0-BAED-87885D07F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CC2936-B7F4-48B7-AA54-0E72040337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841EB1-CD21-46EE-8150-0FD5B2980B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D3280F-4C0F-4059-9236-BEE28F94AC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E364B0-16B9-4081-903E-D14B98A014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5136F7-1E06-4CE2-81E3-D7BBBC8C7F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62D4CC-0162-4AA0-8DF4-35960F72F0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9DA0A8-52DF-4B1C-841A-93D9C597C7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41FEA6-6B15-4B73-978B-0641A90811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1C38BA-44A6-41E8-AF61-B058FB61BD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FA0616-0853-4F35-A50B-2EC4E5CC5A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52C5D-C163-43E1-B65F-A8FE61B39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B78492-AF5D-4B37-8D62-2387DEF202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88CDE3-0372-42D2-93CA-DD7AFEC64B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629B72-3F6E-4905-B72E-1B0F342508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76A8AD-E903-4CED-B36E-C83E1E7A8B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39747E-FE37-4365-820D-CF98BE1CA1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F94B9E-9948-4037-A384-70497B9465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EC0A2C-FB28-48D4-B11B-5CF794189D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9396CE-12E4-42B3-BE18-EF3D7754CC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F9C48A-D4AA-459E-8BA9-7FE22C8C90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AA07A4-0A16-4629-9CFC-80F7BA42AD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91F8A-6F04-4D49-A3D2-846EA3502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926EA2-5824-4576-AA92-D50AEAEDF4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F54CD1-0B8E-47D6-9934-C581DED3DF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A57271-FE46-416B-A9AE-5A727D8263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DA5AFA-A6A7-41D3-B4C8-EA43AABE47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F962C6-92EC-44D1-BD8C-C2D0069D9C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64550D-3DF0-4BD5-90A6-6B6CDE1E00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EFCA73-DC05-4AF7-96F6-41825FA6C9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B55DB0-F0E4-4B5D-A43F-1FC8429055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98DFE0-0767-483D-8EF9-D8ED27DAE4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71FE8F-A689-47DD-B2CC-27848668C3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9AF11-FDE2-4E51-A8E5-51EC1B56D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AB8E59-9476-4253-8285-65336FA5CF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E839A9-0CB1-477C-B914-42239CA634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BAA79A-8579-41AA-9DA8-B7EF5C97E0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936D22-CAE8-4B4F-8028-F478EC9319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A3154D-12C6-469C-ADB9-B14F846031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3CB8605-3E7B-4676-A4A3-B416FF1C70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F527F4-617A-46A0-8FE6-7D606749E1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61F8C363-98E8-44BA-A3DE-727C755C12C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1600585-78FC-42E4-9BE2-525F7AF817D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DCDE0D2-6DA2-4621-9466-E54C494D22BE}"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rostokąt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rostokąt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rostokąt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rostokąt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rostokąt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3282E-16BE-4538-AD2C-B9A4FBB07812}" type="datetime">
              <a:rPr b="0" lang="pl-PL" sz="1400" spc="-1" strike="noStrike">
                <a:solidFill>
                  <a:srgbClr val="ffffff"/>
                </a:solidFill>
                <a:latin typeface="Georgia"/>
              </a:rPr>
              <a:t>31.07.26</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rostokąt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Łącznik prosty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44FA3-83BE-4C9B-96A7-7097D8E7C2CE}" type="slidenum">
              <a:rPr b="0" lang="pl-PL"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Łącznik prosty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Prostokąt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rostokąt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rostokąt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Prostokąt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rostokąt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rostokąt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rostokąt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Elipsa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Elipsa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rostokąt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94552-4E9F-4040-AA99-F7E97A62CCE4}" type="slidenum">
              <a:rPr b="0" lang="pl-PL"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50BDE-C7E7-4180-B64B-89E7BB788BF7}" type="datetime">
              <a:rPr b="0" lang="pl-PL" sz="1400" spc="-1" strike="noStrike">
                <a:solidFill>
                  <a:srgbClr val="ffffff"/>
                </a:solidFill>
                <a:latin typeface="Georgia"/>
              </a:rPr>
              <a:t>31.07.26</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Prostokąt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Prostokąt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rostokąt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rostokąt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Prostokąt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Prostokąt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Łącznik prosty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C6588-E38B-4436-AAFE-3490B584EA0B}" type="datetime">
              <a:rPr b="0" lang="pl-PL" sz="1400" spc="-1" strike="noStrike">
                <a:solidFill>
                  <a:srgbClr val="ffffff"/>
                </a:solidFill>
                <a:latin typeface="Georgia"/>
              </a:rPr>
              <a:t>31.07.26</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1D129-006F-4911-ABE8-44BA3C8DF1A2}" type="slidenum">
              <a:rPr b="0" lang="pl-PL"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Prostokąt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Prostokąt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Prostokąt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Prostokąt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Prostokąt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Prostokąt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Łącznik prosty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Elipsa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Elipsa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8CCE2-651E-4745-BCAA-BEF221981E24}" type="slidenum">
              <a:rPr b="0" lang="pl-PL"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E24CD-832F-411F-9423-2F0ACA1FAB25}" type="datetime">
              <a:rPr b="0" lang="pl-PL" sz="1400" spc="-1" strike="noStrike">
                <a:solidFill>
                  <a:srgbClr val="ffffff"/>
                </a:solidFill>
                <a:latin typeface="Georgia"/>
              </a:rPr>
              <a:t>31.07.26</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Prostokąt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rostokąt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rostokąt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rostokąt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rostokąt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Łącznik prosty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Prostokąt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Elipsa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Elipsa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B81B9-B74C-4C3C-BC17-24C4AB6A4296}" type="datetime">
              <a:rPr b="0" lang="pl-PL" sz="1400" spc="-1" strike="noStrike">
                <a:solidFill>
                  <a:srgbClr val="ffffff"/>
                </a:solidFill>
                <a:latin typeface="Georgia"/>
              </a:rPr>
              <a:t>31.07.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BDB1B-E4DD-4EE1-8835-1E1FAE00D0BA}" type="slidenum">
              <a:rPr b="0" lang="pl-PL"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Prostokąt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rostokąt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rostokąt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rostokąt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rostokąt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rostokąt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Łącznik prosty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A91B0-7A82-4E95-A1E3-3694AB58C353}" type="datetime">
              <a:rPr b="0" lang="pl-PL" sz="1400" spc="-1" strike="noStrike">
                <a:solidFill>
                  <a:srgbClr val="ffffff"/>
                </a:solidFill>
                <a:latin typeface="Georgia"/>
              </a:rPr>
              <a:t>31.07.26</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5A113-EF08-4C6F-BB2C-5F18744DBDF5}" type="slidenum">
              <a:rPr b="0" lang="pl-PL"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rostokąt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rostokąt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rostokąt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rostokąt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rostokąt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rostokąt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rostokąt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rostokąt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Łącznik prosty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Elipsa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Elipsa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68140-EE37-4A48-A645-9DF138F10E2F}" type="datetime">
              <a:rPr b="0" lang="pl-PL" sz="1400" spc="-1" strike="noStrike">
                <a:solidFill>
                  <a:srgbClr val="ffffff"/>
                </a:solidFill>
                <a:latin typeface="Georgia"/>
              </a:rPr>
              <a:t>31.07.26</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0946B-A689-4ED3-8365-0C1245FDABA3}" type="slidenum">
              <a:rPr b="0" lang="pl-PL"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Prostokąt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rostokąt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rostokąt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rostokąt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rostokąt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rostokąt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Łącznik prosty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Łącznik prosty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780E6-09AA-40B0-A4EB-3B6DEF443ED2}" type="datetime">
              <a:rPr b="0" lang="pl-PL" sz="1400" spc="-1" strike="noStrike">
                <a:solidFill>
                  <a:srgbClr val="ffffff"/>
                </a:solidFill>
                <a:latin typeface="Georgia"/>
              </a:rPr>
              <a:t>31.07.26</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708FE-B261-4906-9EB3-43556DDB4CBF}" type="slidenum">
              <a:rPr b="0" lang="pl-PL"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Łącznik prosty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Prostokąt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rostokąt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rostokąt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rostokąt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rostokąt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rostokąt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Łącznik prosty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Prostokąt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Elipsa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Elipsa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4F105-0315-4C48-A535-4A38E2C7C377}" type="datetime">
              <a:rPr b="0" lang="pl-PL" sz="1400" spc="-1" strike="noStrike">
                <a:solidFill>
                  <a:srgbClr val="ffffff"/>
                </a:solidFill>
                <a:latin typeface="Georgia"/>
              </a:rPr>
              <a:t>31.07.26</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74765-9D7B-4C50-9F01-0DA885225B16}" type="slidenum">
              <a:rPr b="0" lang="pl-PL"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rostokąt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rostokąt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Prostokąt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rostokąt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rostokąt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rostokąt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Łącznik prosty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EA68D-0F6F-49A3-8D13-C0D3F50CDC3E}" type="datetime">
              <a:rPr b="0" lang="pl-PL" sz="1400" spc="-1" strike="noStrike">
                <a:solidFill>
                  <a:srgbClr val="ffffff"/>
                </a:solidFill>
                <a:latin typeface="Georgia"/>
              </a:rPr>
              <a:t>31.07.26</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DC5DA-B4F0-44E4-996E-C4F165ECFD39}" type="slidenum">
              <a:rPr b="0" lang="pl-PL"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rostokąt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rostokąt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rostokąt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Prostokąt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rostokąt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rostokąt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6C6C5-9F28-43B8-AB4D-3255457BDF53}" type="datetime">
              <a:rPr b="0" lang="pl-PL" sz="1400" spc="-1" strike="noStrike">
                <a:solidFill>
                  <a:srgbClr val="ffffff"/>
                </a:solidFill>
                <a:latin typeface="Georgia"/>
              </a:rPr>
              <a:t>31.07.26</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C2606-757E-4561-9882-C56FB9F65883}" type="slidenum">
              <a:rPr b="0" lang="pl-PL"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rostokąt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rostokąt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Prostokąt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Prostokąt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Prostokąt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Prostokąt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rostokąt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Łącznik prosty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Elipsa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Elipsa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rostokąt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C1969-3403-4C4E-80AB-BB1FF292ABA0}" type="slidenum">
              <a:rPr b="0" lang="pl-PL"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8A4F4-9CB7-44E5-B890-2A55992E545A}" type="datetime">
              <a:rPr b="0" lang="pl-PL" sz="1400" spc="-1" strike="noStrike">
                <a:solidFill>
                  <a:srgbClr val="ffffff"/>
                </a:solidFill>
                <a:latin typeface="Georgia"/>
              </a:rPr>
              <a:t>31.07.26</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0" y="3357360"/>
            <a:ext cx="9144000" cy="1500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d16349"/>
                </a:solidFill>
                <a:latin typeface="Georgia"/>
              </a:rPr>
              <a:t>Mikrofalowe elementy </a:t>
            </a:r>
            <a:br>
              <a:rPr sz="4400"/>
            </a:br>
            <a:r>
              <a:rPr b="0" lang="pl-PL" sz="4400" spc="-1" strike="noStrike">
                <a:solidFill>
                  <a:srgbClr val="d16349"/>
                </a:solidFill>
                <a:latin typeface="Georgia"/>
              </a:rPr>
              <a:t>półprzewodnikowe</a:t>
            </a:r>
            <a:endParaRPr b="0" lang="en-US" sz="4400" spc="-1" strike="noStrike">
              <a:solidFill>
                <a:srgbClr val="7b9899"/>
              </a:solidFill>
              <a:latin typeface="Georgia"/>
            </a:endParaRPr>
          </a:p>
        </p:txBody>
      </p:sp>
      <p:sp>
        <p:nvSpPr>
          <p:cNvPr id="607" name="pole tekstowe 3"/>
          <p:cNvSpPr/>
          <p:nvPr/>
        </p:nvSpPr>
        <p:spPr>
          <a:xfrm>
            <a:off x="6429240" y="6072120"/>
            <a:ext cx="2571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Opracował:</a:t>
            </a:r>
            <a:endParaRPr b="0" lang="en-US" sz="1800" spc="-1" strike="noStrike">
              <a:solidFill>
                <a:srgbClr val="000000"/>
              </a:solidFill>
              <a:latin typeface="Arial"/>
            </a:endParaRPr>
          </a:p>
        </p:txBody>
      </p:sp>
      <p:sp>
        <p:nvSpPr>
          <p:cNvPr id="608" name="pole tekstowe 4"/>
          <p:cNvSpPr/>
          <p:nvPr/>
        </p:nvSpPr>
        <p:spPr>
          <a:xfrm>
            <a:off x="214200" y="285840"/>
            <a:ext cx="87156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0000"/>
                </a:solidFill>
                <a:latin typeface="Georgia"/>
              </a:rPr>
              <a:t>Urządzenie mikrofalow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0000"/>
                </a:solidFill>
                <a:latin typeface="Georgia"/>
              </a:rPr>
              <a:t>- seminariu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300" spc="-1" strike="noStrike">
                <a:solidFill>
                  <a:srgbClr val="7b9899"/>
                </a:solidFill>
                <a:latin typeface="Georgia"/>
              </a:rPr>
              <a:t>Diody mikrofalowe</a:t>
            </a:r>
            <a:endParaRPr b="0" lang="en-US" sz="3300" spc="-1" strike="noStrike">
              <a:solidFill>
                <a:srgbClr val="7b9899"/>
              </a:solidFill>
              <a:latin typeface="Georgia"/>
            </a:endParaRPr>
          </a:p>
        </p:txBody>
      </p:sp>
      <p:sp>
        <p:nvSpPr>
          <p:cNvPr id="642"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09D97-6E5D-46BC-9A67-4F1EFF6AAE8E}"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sp>
        <p:nvSpPr>
          <p:cNvPr id="643" name="pole tekstowe 5"/>
          <p:cNvSpPr/>
          <p:nvPr/>
        </p:nvSpPr>
        <p:spPr>
          <a:xfrm>
            <a:off x="214200" y="1571760"/>
            <a:ext cx="8715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Georgia"/>
              </a:rPr>
              <a:t>Parametry techniczne przykładowo wybranych diod detekcyjnych i mieszających </a:t>
            </a:r>
            <a:endParaRPr b="0" lang="en-US" sz="2000" spc="-1" strike="noStrike">
              <a:solidFill>
                <a:srgbClr val="000000"/>
              </a:solidFill>
              <a:latin typeface="Arial"/>
            </a:endParaRPr>
          </a:p>
        </p:txBody>
      </p:sp>
      <p:pic>
        <p:nvPicPr>
          <p:cNvPr id="644" name="Picture 2" descr=""/>
          <p:cNvPicPr/>
          <p:nvPr/>
        </p:nvPicPr>
        <p:blipFill>
          <a:blip r:embed="rId1"/>
          <a:srcRect l="1569" t="0" r="2661" b="0"/>
          <a:stretch/>
        </p:blipFill>
        <p:spPr>
          <a:xfrm>
            <a:off x="46080" y="2500200"/>
            <a:ext cx="9051840" cy="3857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300" spc="-1" strike="noStrike">
                <a:solidFill>
                  <a:srgbClr val="7b9899"/>
                </a:solidFill>
                <a:latin typeface="Georgia"/>
              </a:rPr>
              <a:t>Diody mikrofalowe</a:t>
            </a:r>
            <a:endParaRPr b="0" lang="en-US" sz="3300" spc="-1" strike="noStrike">
              <a:solidFill>
                <a:srgbClr val="7b9899"/>
              </a:solidFill>
              <a:latin typeface="Georgia"/>
            </a:endParaRPr>
          </a:p>
        </p:txBody>
      </p:sp>
      <p:sp>
        <p:nvSpPr>
          <p:cNvPr id="646"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7F3D2-8951-4F0E-A954-3A0BFC732D16}"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sp>
        <p:nvSpPr>
          <p:cNvPr id="647" name="pole tekstowe 5"/>
          <p:cNvSpPr/>
          <p:nvPr/>
        </p:nvSpPr>
        <p:spPr>
          <a:xfrm>
            <a:off x="214200" y="1533600"/>
            <a:ext cx="8715600" cy="5551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Georgia"/>
              </a:rPr>
              <a:t>Diody o zmiennej impedancji</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W kierunku wstecznym dioda p-i-n odznacza się bardzo dużą rezystancją i bardzo małą pojemnością. Podczas polaryzacji w kierunku przewodzenia do warstwy i wstrzykiwane są dziury i elektrony, warstwa ta jest zalewana, a więc dioda przechodzi w stan małej impedancji.</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Georgia"/>
              </a:rPr>
              <a:t>Diody mikrofalowe z ujemna rezystancją dynamiczną</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W diodach tych do bezpośredniego przetwarzania energii prądu stałego na energie prądu zmiennego wykorzystuje się ujemną rezystancję dynamiczną wywołaną:</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 </a:t>
            </a:r>
            <a:r>
              <a:rPr b="0" lang="pl-PL" sz="2000" spc="-1" strike="noStrike">
                <a:solidFill>
                  <a:srgbClr val="000000"/>
                </a:solidFill>
                <a:latin typeface="Georgia"/>
              </a:rPr>
              <a:t>elektronowymi przejściami energetycznymi (diody TE – kilkaset mW)</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 </a:t>
            </a:r>
            <a:r>
              <a:rPr b="0" lang="pl-PL" sz="2000" spc="-1" strike="noStrike">
                <a:solidFill>
                  <a:srgbClr val="000000"/>
                </a:solidFill>
                <a:latin typeface="Georgia"/>
              </a:rPr>
              <a:t>skończonym czasem przelotu w obszarze ich unoszenia (diody TT – kilkaset mW)</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 </a:t>
            </a:r>
            <a:r>
              <a:rPr b="0" lang="pl-PL" sz="2000" spc="-1" strike="noStrike">
                <a:solidFill>
                  <a:srgbClr val="000000"/>
                </a:solidFill>
                <a:latin typeface="Georgia"/>
              </a:rPr>
              <a:t>tunelowanie nośników z pasma przewodnictwa przez warstwę zaporową do pasma walencyjnego (diody tunelowe – służą do wzmacniania i generacji sygnałów mikrofalowych małej mocy ~m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300" spc="-1" strike="noStrike">
                <a:solidFill>
                  <a:srgbClr val="7b9899"/>
                </a:solidFill>
                <a:latin typeface="Georgia"/>
              </a:rPr>
              <a:t>Diody mikrofalowe</a:t>
            </a:r>
            <a:endParaRPr b="0" lang="en-US" sz="3300" spc="-1" strike="noStrike">
              <a:solidFill>
                <a:srgbClr val="7b9899"/>
              </a:solidFill>
              <a:latin typeface="Georgia"/>
            </a:endParaRPr>
          </a:p>
        </p:txBody>
      </p:sp>
      <p:sp>
        <p:nvSpPr>
          <p:cNvPr id="649"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4C5D7-EE3C-44C3-8546-97BA08397875}"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sp>
        <p:nvSpPr>
          <p:cNvPr id="650" name="pole tekstowe 5"/>
          <p:cNvSpPr/>
          <p:nvPr/>
        </p:nvSpPr>
        <p:spPr>
          <a:xfrm>
            <a:off x="214200" y="1357200"/>
            <a:ext cx="8715600" cy="269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100" spc="-1" strike="noStrike">
                <a:solidFill>
                  <a:srgbClr val="000000"/>
                </a:solidFill>
                <a:latin typeface="Georgia"/>
              </a:rPr>
              <a:t>Mody diod TE</a:t>
            </a:r>
            <a:endParaRPr b="0" lang="en-US" sz="21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Georgia"/>
              </a:rPr>
              <a:t> </a:t>
            </a:r>
            <a:r>
              <a:rPr b="0" lang="pl-PL" sz="2100" spc="-1" strike="noStrike">
                <a:solidFill>
                  <a:srgbClr val="000000"/>
                </a:solidFill>
                <a:latin typeface="Georgia"/>
              </a:rPr>
              <a:t>mod Gunna; polaryzacja diody TE stałym napięciem, dla którego E&gt;E</a:t>
            </a:r>
            <a:r>
              <a:rPr b="0" lang="pl-PL" sz="2100" spc="-1" strike="noStrike" baseline="-25000">
                <a:solidFill>
                  <a:srgbClr val="000000"/>
                </a:solidFill>
                <a:latin typeface="Georgia"/>
              </a:rPr>
              <a:t>k</a:t>
            </a:r>
            <a:r>
              <a:rPr b="0" lang="pl-PL" sz="2100" spc="-1" strike="noStrike">
                <a:solidFill>
                  <a:srgbClr val="000000"/>
                </a:solidFill>
                <a:latin typeface="Georgia"/>
              </a:rPr>
              <a:t> – mała sprawność przemiany energii prądu stałego na energię sygnału mikrofalowego</a:t>
            </a:r>
            <a:endParaRPr b="0" lang="en-US" sz="21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Georgia"/>
              </a:rPr>
              <a:t> </a:t>
            </a:r>
            <a:r>
              <a:rPr b="0" lang="pl-PL" sz="2100" spc="-1" strike="noStrike">
                <a:solidFill>
                  <a:srgbClr val="000000"/>
                </a:solidFill>
                <a:latin typeface="Georgia"/>
              </a:rPr>
              <a:t>mod domeny gaszonej – stała czasowa obwodu rezonansowego mniejsza od czasu przelotu domeny</a:t>
            </a:r>
            <a:endParaRPr b="0" lang="en-US" sz="21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Georgia"/>
              </a:rPr>
              <a:t> </a:t>
            </a:r>
            <a:r>
              <a:rPr b="0" lang="pl-PL" sz="2100" spc="-1" strike="noStrike">
                <a:solidFill>
                  <a:srgbClr val="000000"/>
                </a:solidFill>
                <a:latin typeface="Georgia"/>
              </a:rPr>
              <a:t>mod LSA – stała czasowa obwodu rezonansowego mniejsza od czasu relaksacji (powstawania domeny)</a:t>
            </a:r>
            <a:endParaRPr b="0" lang="en-US" sz="2100" spc="-1" strike="noStrike">
              <a:solidFill>
                <a:srgbClr val="000000"/>
              </a:solidFill>
              <a:latin typeface="Arial"/>
            </a:endParaRPr>
          </a:p>
        </p:txBody>
      </p:sp>
      <p:sp>
        <p:nvSpPr>
          <p:cNvPr id="651" name="pole tekstowe 4"/>
          <p:cNvSpPr/>
          <p:nvPr/>
        </p:nvSpPr>
        <p:spPr>
          <a:xfrm>
            <a:off x="534960" y="6357960"/>
            <a:ext cx="807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a), b) – mod Gunna, c) – mod domeny gaszonej, e) – mod LSA</a:t>
            </a:r>
            <a:endParaRPr b="0" lang="en-US" sz="2000" spc="-1" strike="noStrike">
              <a:solidFill>
                <a:srgbClr val="000000"/>
              </a:solidFill>
              <a:latin typeface="Arial"/>
            </a:endParaRPr>
          </a:p>
        </p:txBody>
      </p:sp>
      <p:pic>
        <p:nvPicPr>
          <p:cNvPr id="652" name="Picture 2" descr=""/>
          <p:cNvPicPr/>
          <p:nvPr/>
        </p:nvPicPr>
        <p:blipFill>
          <a:blip r:embed="rId1"/>
          <a:stretch/>
        </p:blipFill>
        <p:spPr>
          <a:xfrm>
            <a:off x="1285920" y="4071960"/>
            <a:ext cx="6495840" cy="220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300" spc="-1" strike="noStrike">
                <a:solidFill>
                  <a:srgbClr val="7b9899"/>
                </a:solidFill>
                <a:latin typeface="Georgia"/>
              </a:rPr>
              <a:t>Diody mikrofalowe</a:t>
            </a:r>
            <a:endParaRPr b="0" lang="en-US" sz="3300" spc="-1" strike="noStrike">
              <a:solidFill>
                <a:srgbClr val="7b9899"/>
              </a:solidFill>
              <a:latin typeface="Georgia"/>
            </a:endParaRPr>
          </a:p>
        </p:txBody>
      </p:sp>
      <p:sp>
        <p:nvSpPr>
          <p:cNvPr id="654"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22788-0683-4C03-A7C7-B41D33C993B3}"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sp>
        <p:nvSpPr>
          <p:cNvPr id="655" name="pole tekstowe 5"/>
          <p:cNvSpPr/>
          <p:nvPr/>
        </p:nvSpPr>
        <p:spPr>
          <a:xfrm>
            <a:off x="214200" y="1500120"/>
            <a:ext cx="8715600" cy="514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Georgia"/>
              </a:rPr>
              <a:t>Diody PI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Są używane jako elementy o zmiennej impedancji w układach elektronicznych bardzo wielkich częstotliwości. Posiadają małą rezystancję w kierunku przewodzenia i małą pojemność w kierunku zaporowym. W rezultacie odznaczają się niskim tłumieniem gdy są załączone, a wysokim tłumieniem kiedy nie przewodzą. Charakterystyczna dla tej diody jest bezwładność przy przełączaniu. Oznacza to, ze dioda nie nadąża ze swoją charakterystyką za zmianami sygnałów wejściowych. W zasadzie dioda ta funkcjonuje jak rezystor dla wysokich częstotliwości. Bezwładność, czas powrotu do napięcia zaporowego, zależy od czasu życia nośników mniejszościowych. Diody PIN dla zakresu mikrofal, mogą mieć t równe kilka ns, ale istnieją również diody PIN, które można stosować aż do kilku MHz z t równym m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Dolna granica częstotliwości = 1/2pt. Poniżej tej granicy dioda funkcjonuje jak zwykle złącze P-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300" spc="-1" strike="noStrike">
                <a:solidFill>
                  <a:srgbClr val="7b9899"/>
                </a:solidFill>
                <a:latin typeface="Georgia"/>
              </a:rPr>
              <a:t>Diody mikrofalowe</a:t>
            </a:r>
            <a:endParaRPr b="0" lang="en-US" sz="3300" spc="-1" strike="noStrike">
              <a:solidFill>
                <a:srgbClr val="7b9899"/>
              </a:solidFill>
              <a:latin typeface="Georgia"/>
            </a:endParaRPr>
          </a:p>
        </p:txBody>
      </p:sp>
      <p:sp>
        <p:nvSpPr>
          <p:cNvPr id="657"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8DDF0-F7F7-4D1D-BF2B-BACA077EE10A}"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sp>
        <p:nvSpPr>
          <p:cNvPr id="658" name="pole tekstowe 5"/>
          <p:cNvSpPr/>
          <p:nvPr/>
        </p:nvSpPr>
        <p:spPr>
          <a:xfrm>
            <a:off x="214200" y="1500120"/>
            <a:ext cx="8715600" cy="2685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Georgia"/>
              </a:rPr>
              <a:t>Diody PI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Rezystancja diody PIN w kierunku przewodzenia może się zmieniać od 1 do 10 000 </a:t>
            </a:r>
            <a:r>
              <a:rPr b="0" lang="el-GR" sz="2000" spc="-1" strike="noStrike">
                <a:solidFill>
                  <a:srgbClr val="000000"/>
                </a:solidFill>
                <a:latin typeface="Georgia"/>
              </a:rPr>
              <a:t>Ω</a:t>
            </a:r>
            <a:r>
              <a:rPr b="0" lang="pl-PL" sz="2000" spc="-1" strike="noStrike">
                <a:solidFill>
                  <a:srgbClr val="000000"/>
                </a:solidFill>
                <a:latin typeface="Georgia"/>
              </a:rPr>
              <a:t> w zależności od polaryzacji. Stosowana jest w tłumikach sterowanych prądowo.</a:t>
            </a:r>
            <a:br>
              <a:rPr sz="2000"/>
            </a:br>
            <a:br>
              <a:rPr sz="2000"/>
            </a:br>
            <a:r>
              <a:rPr b="0" lang="pl-PL" sz="2000" spc="-1" strike="noStrike">
                <a:solidFill>
                  <a:srgbClr val="000000"/>
                </a:solidFill>
                <a:latin typeface="Georgia"/>
              </a:rPr>
              <a:t>Dioda PIN posiada wbudowaną warstwę wewnętrzną </a:t>
            </a:r>
            <a:r>
              <a:rPr b="0" i="1" lang="pl-PL" sz="2000" spc="-1" strike="noStrike">
                <a:solidFill>
                  <a:srgbClr val="000000"/>
                </a:solidFill>
                <a:latin typeface="Georgia"/>
              </a:rPr>
              <a:t>i</a:t>
            </a:r>
            <a:r>
              <a:rPr b="0" lang="pl-PL" sz="2000" spc="-1" strike="noStrike">
                <a:solidFill>
                  <a:srgbClr val="000000"/>
                </a:solidFill>
                <a:latin typeface="Georgia"/>
              </a:rPr>
              <a:t> (w idealnym przypadku warstwa półprzewodnika samoistnego), która znajduje się miedzy obszarem materiału P i materiału N. </a:t>
            </a:r>
            <a:endParaRPr b="0" lang="en-US" sz="2000" spc="-1" strike="noStrike">
              <a:solidFill>
                <a:srgbClr val="000000"/>
              </a:solidFill>
              <a:latin typeface="Arial"/>
            </a:endParaRPr>
          </a:p>
        </p:txBody>
      </p:sp>
      <p:pic>
        <p:nvPicPr>
          <p:cNvPr id="659" name="Picture 2" descr=""/>
          <p:cNvPicPr/>
          <p:nvPr/>
        </p:nvPicPr>
        <p:blipFill>
          <a:blip r:embed="rId1"/>
          <a:stretch/>
        </p:blipFill>
        <p:spPr>
          <a:xfrm>
            <a:off x="785880" y="4500720"/>
            <a:ext cx="2571840" cy="1928520"/>
          </a:xfrm>
          <a:prstGeom prst="rect">
            <a:avLst/>
          </a:prstGeom>
          <a:ln w="0">
            <a:noFill/>
          </a:ln>
        </p:spPr>
      </p:pic>
      <p:pic>
        <p:nvPicPr>
          <p:cNvPr id="660" name="Picture 3" descr=""/>
          <p:cNvPicPr/>
          <p:nvPr/>
        </p:nvPicPr>
        <p:blipFill>
          <a:blip r:embed="rId2"/>
          <a:srcRect l="16846" t="38086" r="34817" b="29690"/>
          <a:stretch/>
        </p:blipFill>
        <p:spPr>
          <a:xfrm>
            <a:off x="3857760" y="4214880"/>
            <a:ext cx="4714920" cy="2357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300" spc="-1" strike="noStrike">
                <a:solidFill>
                  <a:srgbClr val="7b9899"/>
                </a:solidFill>
                <a:latin typeface="Georgia"/>
              </a:rPr>
              <a:t>Diody mikrofalowe</a:t>
            </a:r>
            <a:endParaRPr b="0" lang="en-US" sz="3300" spc="-1" strike="noStrike">
              <a:solidFill>
                <a:srgbClr val="7b9899"/>
              </a:solidFill>
              <a:latin typeface="Georgia"/>
            </a:endParaRPr>
          </a:p>
        </p:txBody>
      </p:sp>
      <p:sp>
        <p:nvSpPr>
          <p:cNvPr id="662"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DC8C3-7519-47CC-A571-2C2A3AE9F89B}"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sp>
        <p:nvSpPr>
          <p:cNvPr id="663" name="pole tekstowe 5"/>
          <p:cNvSpPr/>
          <p:nvPr/>
        </p:nvSpPr>
        <p:spPr>
          <a:xfrm>
            <a:off x="214200" y="1500120"/>
            <a:ext cx="8715600" cy="5393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Georgia"/>
              </a:rPr>
              <a:t>Dioda ładunkowa </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Georgia"/>
              </a:rPr>
              <a:t>Jest typem diody, który podobnie do diody PIN, ma trzy warstwy. Różni sie jednak tym, że zmiana rezystancji odbywa się gwałtownie przy minimalnej zmianie ładunku miedzy P i N. Umożliwia to uformowanie impulsów prądu o bardzo stromych zboczach i pozwala otrzymać wiele częstotliwości harmonicznych przebiegu podstawowego. Typowym przykładem zastosowania jest powielacz częstotliwości dla zakresu wielkich częstotliwości</a:t>
            </a:r>
            <a:r>
              <a:rPr b="0" lang="pl-PL" sz="2000" spc="-1" strike="noStrike">
                <a:solidFill>
                  <a:srgbClr val="000000"/>
                </a:solidFill>
                <a:latin typeface="Georgia"/>
              </a:rPr>
              <a:t>.</a:t>
            </a:r>
            <a:br>
              <a:rPr sz="14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300" spc="-1" strike="noStrike">
                <a:solidFill>
                  <a:srgbClr val="7b9899"/>
                </a:solidFill>
                <a:latin typeface="Georgia"/>
              </a:rPr>
              <a:t>Diody mikrofalowe</a:t>
            </a:r>
            <a:endParaRPr b="0" lang="en-US" sz="3300" spc="-1" strike="noStrike">
              <a:solidFill>
                <a:srgbClr val="7b9899"/>
              </a:solidFill>
              <a:latin typeface="Georgia"/>
            </a:endParaRPr>
          </a:p>
        </p:txBody>
      </p:sp>
      <p:sp>
        <p:nvSpPr>
          <p:cNvPr id="665"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8F591-8B1D-49CB-B8EE-82CFD367BFB6}"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sp>
        <p:nvSpPr>
          <p:cNvPr id="666" name="pole tekstowe 5"/>
          <p:cNvSpPr/>
          <p:nvPr/>
        </p:nvSpPr>
        <p:spPr>
          <a:xfrm>
            <a:off x="214200" y="1500120"/>
            <a:ext cx="8715600" cy="550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Georgia"/>
              </a:rPr>
              <a:t>Dioda Gunn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Używana głównie w generatorach mikrofalowych. Na powierzchnię arsenku galu o grubości ok 0,5 mm, naniesiona jest metodą epitaksji cienka warstwa arsenku galu typu N o niskiej rezystancji. Do drugiej strony struktury, od strony anody, dołączony jest metalowy radiator. Katoda diody znajduje się po stronie warstwy epitaksjalnej. Po dołączeniu do diody odpowiedniego napięcia, takiego by natężenie pola elektrycznego w warstwie epitaksjalnej przekroczyło 350 V/mm, nastąpi generacja obszaru o wysokim natężeniu pola nazwanego "domeną". Powstająca przy katodzie domena będzie się powoli przemieszczała w kierunku anody. Droga, po której się ona porusza decyduje o czasie powtarzania się impulsów. Dioda Gunna dla 10 GHz ma warstwę epitaksjalną ok. 10 mm. Przy połączeniu diody z rezonatorem, można uzyskać napięcie sinusoidalne. Jednym z wariantów diod Gunna są diody wykonane z silnie domieszkowanego półprzewodnika. Nazywają się diodami </a:t>
            </a:r>
            <a:r>
              <a:rPr b="1" lang="pl-PL" sz="2000" spc="-1" strike="noStrike">
                <a:solidFill>
                  <a:srgbClr val="000000"/>
                </a:solidFill>
                <a:latin typeface="Georgia"/>
              </a:rPr>
              <a:t>LSA</a:t>
            </a:r>
            <a:r>
              <a:rPr b="0" lang="pl-PL" sz="2000" spc="-1" strike="noStrike">
                <a:solidFill>
                  <a:srgbClr val="000000"/>
                </a:solidFill>
                <a:latin typeface="Georgia"/>
              </a:rPr>
              <a:t> i mogą generować impulsy mocy wielu k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300" spc="-1" strike="noStrike">
                <a:solidFill>
                  <a:srgbClr val="7b9899"/>
                </a:solidFill>
                <a:latin typeface="Georgia"/>
              </a:rPr>
              <a:t>Diody mikrofalowe</a:t>
            </a:r>
            <a:endParaRPr b="0" lang="en-US" sz="3300" spc="-1" strike="noStrike">
              <a:solidFill>
                <a:srgbClr val="7b9899"/>
              </a:solidFill>
              <a:latin typeface="Georgia"/>
            </a:endParaRPr>
          </a:p>
        </p:txBody>
      </p:sp>
      <p:sp>
        <p:nvSpPr>
          <p:cNvPr id="668"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9D78D-CFC3-43A2-970F-04A6EC32B023}"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sp>
        <p:nvSpPr>
          <p:cNvPr id="669" name="pole tekstowe 5"/>
          <p:cNvSpPr/>
          <p:nvPr/>
        </p:nvSpPr>
        <p:spPr>
          <a:xfrm>
            <a:off x="214200" y="1500120"/>
            <a:ext cx="8715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Georgia"/>
              </a:rPr>
              <a:t>Dioda Gunna</a:t>
            </a:r>
            <a:endParaRPr b="0" lang="en-US" sz="2400" spc="-1" strike="noStrike">
              <a:solidFill>
                <a:srgbClr val="000000"/>
              </a:solidFill>
              <a:latin typeface="Arial"/>
            </a:endParaRPr>
          </a:p>
        </p:txBody>
      </p:sp>
      <p:pic>
        <p:nvPicPr>
          <p:cNvPr id="670" name="Picture 2" descr=""/>
          <p:cNvPicPr/>
          <p:nvPr/>
        </p:nvPicPr>
        <p:blipFill>
          <a:blip r:embed="rId1"/>
          <a:stretch/>
        </p:blipFill>
        <p:spPr>
          <a:xfrm>
            <a:off x="428760" y="3143160"/>
            <a:ext cx="4071960" cy="2103480"/>
          </a:xfrm>
          <a:prstGeom prst="rect">
            <a:avLst/>
          </a:prstGeom>
          <a:ln w="0">
            <a:noFill/>
          </a:ln>
        </p:spPr>
      </p:pic>
      <p:pic>
        <p:nvPicPr>
          <p:cNvPr id="671" name="Picture 3" descr=""/>
          <p:cNvPicPr/>
          <p:nvPr/>
        </p:nvPicPr>
        <p:blipFill>
          <a:blip r:embed="rId2"/>
          <a:stretch/>
        </p:blipFill>
        <p:spPr>
          <a:xfrm>
            <a:off x="5500800" y="3143160"/>
            <a:ext cx="3197160" cy="2143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300" spc="-1" strike="noStrike">
                <a:solidFill>
                  <a:srgbClr val="7b9899"/>
                </a:solidFill>
                <a:latin typeface="Georgia"/>
              </a:rPr>
              <a:t>Diody mikrofalowe</a:t>
            </a:r>
            <a:endParaRPr b="0" lang="en-US" sz="3300" spc="-1" strike="noStrike">
              <a:solidFill>
                <a:srgbClr val="7b9899"/>
              </a:solidFill>
              <a:latin typeface="Georgia"/>
            </a:endParaRPr>
          </a:p>
        </p:txBody>
      </p:sp>
      <p:sp>
        <p:nvSpPr>
          <p:cNvPr id="673"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6C3F4-B0A9-4B95-9943-A35AB6F1027A}"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sp>
        <p:nvSpPr>
          <p:cNvPr id="674" name="pole tekstowe 5"/>
          <p:cNvSpPr/>
          <p:nvPr/>
        </p:nvSpPr>
        <p:spPr>
          <a:xfrm>
            <a:off x="214200" y="1571760"/>
            <a:ext cx="8715600" cy="509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Georgia"/>
              </a:rPr>
              <a:t>Diody przelotow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Georgia"/>
              </a:rPr>
              <a:t>Dioda IMPATT </a:t>
            </a:r>
            <a:r>
              <a:rPr b="0" lang="pl-PL" sz="1900" spc="-1" strike="noStrike">
                <a:solidFill>
                  <a:srgbClr val="000000"/>
                </a:solidFill>
                <a:latin typeface="Georgia"/>
              </a:rPr>
              <a:t>(Avalanche Transition- Time Diod) stosowana jest w generatorach mikrofalowych. Wykorzystuje się w niej czas przelotu przez warstwę ładunku przestrzennego, podobnie jak w diodach Gunna i diodach TRAPATT.</a:t>
            </a:r>
            <a:br>
              <a:rPr sz="1900"/>
            </a:br>
            <a:br>
              <a:rPr sz="1900"/>
            </a:br>
            <a:r>
              <a:rPr b="1" lang="pl-PL" sz="1900" spc="-1" strike="noStrike">
                <a:solidFill>
                  <a:srgbClr val="000000"/>
                </a:solidFill>
                <a:latin typeface="Georgia"/>
              </a:rPr>
              <a:t>Diody TRAPATT (</a:t>
            </a:r>
            <a:r>
              <a:rPr b="0" lang="pl-PL" sz="1900" spc="-1" strike="noStrike">
                <a:solidFill>
                  <a:srgbClr val="000000"/>
                </a:solidFill>
                <a:latin typeface="Georgia"/>
              </a:rPr>
              <a:t>Trapped Plasma Avalanche Triggered Transit)</a:t>
            </a:r>
            <a:r>
              <a:rPr b="1" lang="pl-PL" sz="1900" spc="-1" strike="noStrike">
                <a:solidFill>
                  <a:srgbClr val="000000"/>
                </a:solidFill>
                <a:latin typeface="Georgia"/>
              </a:rPr>
              <a:t> </a:t>
            </a:r>
            <a:r>
              <a:rPr b="0" lang="pl-PL" sz="1900" spc="-1" strike="noStrike">
                <a:solidFill>
                  <a:srgbClr val="000000"/>
                </a:solidFill>
                <a:latin typeface="Georgia"/>
              </a:rPr>
              <a:t>jest wariantem diody IMPATT. Ze względu na wartości czasów przełączenia diody Gunna i IMPATT na ogól nie wytrzymują wyższych częstotliwości niż 3 GHz. Diody TRAPATT mogą jednak być stosowane aż do  ok. 500 Mhz i posiadać moce do 600 W.</a:t>
            </a:r>
            <a:br>
              <a:rPr sz="1900"/>
            </a:br>
            <a:br>
              <a:rPr sz="1900"/>
            </a:br>
            <a:r>
              <a:rPr b="1" lang="pl-PL" sz="1900" spc="-1" strike="noStrike">
                <a:solidFill>
                  <a:srgbClr val="000000"/>
                </a:solidFill>
                <a:latin typeface="Georgia"/>
              </a:rPr>
              <a:t>Dioda BARITT </a:t>
            </a:r>
            <a:r>
              <a:rPr b="0" lang="pl-PL" sz="1900" spc="-1" strike="noStrike">
                <a:solidFill>
                  <a:srgbClr val="000000"/>
                </a:solidFill>
                <a:latin typeface="Georgia"/>
              </a:rPr>
              <a:t>(Barrier Injection Transit Time) jest zbudowana z dwóch przeciwnie skierowanych złącz  P-N, rozdzielonych wspólnym obszarem typ n. Opóźnienie czasowe powstające w obszarze n powoduje ujemną rezystancję.</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300" spc="-1" strike="noStrike">
                <a:solidFill>
                  <a:srgbClr val="7b9899"/>
                </a:solidFill>
                <a:latin typeface="Georgia"/>
              </a:rPr>
              <a:t>Diody mikrofalowe</a:t>
            </a:r>
            <a:endParaRPr b="0" lang="en-US" sz="3300" spc="-1" strike="noStrike">
              <a:solidFill>
                <a:srgbClr val="7b9899"/>
              </a:solidFill>
              <a:latin typeface="Georgia"/>
            </a:endParaRPr>
          </a:p>
        </p:txBody>
      </p:sp>
      <p:sp>
        <p:nvSpPr>
          <p:cNvPr id="676"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5EE4A-1951-4E9D-AA02-DDAC800F6375}"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sp>
        <p:nvSpPr>
          <p:cNvPr id="677" name="pole tekstowe 5"/>
          <p:cNvSpPr/>
          <p:nvPr/>
        </p:nvSpPr>
        <p:spPr>
          <a:xfrm>
            <a:off x="214200" y="1428840"/>
            <a:ext cx="8715600" cy="530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Georgia"/>
              </a:rPr>
              <a:t>Diody przelotow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 </a:t>
            </a:r>
            <a:r>
              <a:rPr b="0" lang="pl-PL" sz="2000" spc="-1" strike="noStrike">
                <a:solidFill>
                  <a:srgbClr val="000000"/>
                </a:solidFill>
                <a:latin typeface="Georgia"/>
              </a:rPr>
              <a:t>lawinowo-przelotowe (IMPATT i TRARAPATT) – powielanie lawinowe nośników w określonym obszarze oraz ich przelot przez warstwę ładunku przestrzennego</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 </a:t>
            </a:r>
            <a:r>
              <a:rPr b="0" lang="pl-PL" sz="2000" spc="-1" strike="noStrike">
                <a:solidFill>
                  <a:srgbClr val="000000"/>
                </a:solidFill>
                <a:latin typeface="Georgia"/>
              </a:rPr>
              <a:t>iniekcyjno-przelotowe (BARIT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Georgia"/>
              </a:rPr>
              <a:t>W diodach lawinowo-przelotowych </a:t>
            </a:r>
            <a:r>
              <a:rPr b="0" lang="pl-PL" sz="2000" spc="-1" strike="noStrike">
                <a:solidFill>
                  <a:srgbClr val="000000"/>
                </a:solidFill>
                <a:latin typeface="Georgia"/>
              </a:rPr>
              <a:t>ujemną konduktancję dynamiczną uzyskuje się w efekcie przesunięcia fazowego o 180º miedzy zmiennymi sygnałami prądu i napięcia spowodowanego skończonym czasem przelotu nośników przez warstwę ładunku przestrzenneg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Georgia"/>
              </a:rPr>
              <a:t>W diodach iniekcyjno-przelotowych </a:t>
            </a:r>
            <a:r>
              <a:rPr b="0" lang="pl-PL" sz="2000" spc="-1" strike="noStrike">
                <a:solidFill>
                  <a:srgbClr val="000000"/>
                </a:solidFill>
                <a:latin typeface="Georgia"/>
              </a:rPr>
              <a:t>dwa złącza p-n rozdzielone są warstwą słabo domieszkowaną (obszar unoszenia). Źródłem nosników jest wstrzykiwanie poprzez jedno ze złącz spolaryzowanego w kierunku przewodzen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300" spc="-1" strike="noStrike">
                <a:solidFill>
                  <a:srgbClr val="7b9899"/>
                </a:solidFill>
                <a:latin typeface="Georgia"/>
              </a:rPr>
              <a:t>Klasyfikacja</a:t>
            </a:r>
            <a:endParaRPr b="0" lang="en-US" sz="3300" spc="-1" strike="noStrike">
              <a:solidFill>
                <a:srgbClr val="7b9899"/>
              </a:solidFill>
              <a:latin typeface="Georgia"/>
            </a:endParaRPr>
          </a:p>
        </p:txBody>
      </p:sp>
      <p:sp>
        <p:nvSpPr>
          <p:cNvPr id="610"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70CD9-15A9-4C6A-AFA1-8938B9AA23BB}"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pic>
        <p:nvPicPr>
          <p:cNvPr id="611" name="Diagram 4" descr=""/>
          <p:cNvPicPr/>
          <p:nvPr/>
        </p:nvPicPr>
        <p:blipFill>
          <a:blip r:embed="rId1"/>
          <a:stretch/>
        </p:blipFill>
        <p:spPr>
          <a:xfrm>
            <a:off x="353880" y="1530360"/>
            <a:ext cx="8582040" cy="5278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300" spc="-1" strike="noStrike">
                <a:solidFill>
                  <a:srgbClr val="7b9899"/>
                </a:solidFill>
                <a:latin typeface="Georgia"/>
              </a:rPr>
              <a:t>Diody mikrofalowe</a:t>
            </a:r>
            <a:endParaRPr b="0" lang="en-US" sz="3300" spc="-1" strike="noStrike">
              <a:solidFill>
                <a:srgbClr val="7b9899"/>
              </a:solidFill>
              <a:latin typeface="Georgia"/>
            </a:endParaRPr>
          </a:p>
        </p:txBody>
      </p:sp>
      <p:sp>
        <p:nvSpPr>
          <p:cNvPr id="679"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68931-AFA9-4C84-AA47-6AD3AA50E543}"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sp>
        <p:nvSpPr>
          <p:cNvPr id="680" name="pole tekstowe 5"/>
          <p:cNvSpPr/>
          <p:nvPr/>
        </p:nvSpPr>
        <p:spPr>
          <a:xfrm>
            <a:off x="214200" y="1428840"/>
            <a:ext cx="871560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eorgia"/>
              </a:rPr>
              <a:t>Zakresy zastosowań diod z ujemną rezystancją dynamiczną</a:t>
            </a:r>
            <a:endParaRPr b="0" lang="en-US" sz="1800" spc="-1" strike="noStrike">
              <a:solidFill>
                <a:srgbClr val="000000"/>
              </a:solidFill>
              <a:latin typeface="Arial"/>
            </a:endParaRPr>
          </a:p>
        </p:txBody>
      </p:sp>
      <p:pic>
        <p:nvPicPr>
          <p:cNvPr id="681" name="Picture 2" descr=""/>
          <p:cNvPicPr/>
          <p:nvPr/>
        </p:nvPicPr>
        <p:blipFill>
          <a:blip r:embed="rId1"/>
          <a:stretch/>
        </p:blipFill>
        <p:spPr>
          <a:xfrm>
            <a:off x="181080" y="1857240"/>
            <a:ext cx="8781840" cy="5000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300" spc="-1" strike="noStrike">
                <a:solidFill>
                  <a:srgbClr val="7b9899"/>
                </a:solidFill>
                <a:latin typeface="Georgia"/>
              </a:rPr>
              <a:t>Diody mikrofalowe</a:t>
            </a:r>
            <a:endParaRPr b="0" lang="en-US" sz="3300" spc="-1" strike="noStrike">
              <a:solidFill>
                <a:srgbClr val="7b9899"/>
              </a:solidFill>
              <a:latin typeface="Georgia"/>
            </a:endParaRPr>
          </a:p>
        </p:txBody>
      </p:sp>
      <p:sp>
        <p:nvSpPr>
          <p:cNvPr id="683"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FAA34-C098-4466-9142-1C10A76667CB}"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sp>
        <p:nvSpPr>
          <p:cNvPr id="684" name="pole tekstowe 5"/>
          <p:cNvSpPr/>
          <p:nvPr/>
        </p:nvSpPr>
        <p:spPr>
          <a:xfrm>
            <a:off x="214200" y="1500120"/>
            <a:ext cx="8715600" cy="521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Georgia"/>
              </a:rPr>
              <a:t>Diody TE</a:t>
            </a:r>
            <a:r>
              <a:rPr b="0" lang="pl-PL" sz="2000" spc="-1" strike="noStrike">
                <a:solidFill>
                  <a:srgbClr val="000000"/>
                </a:solidFill>
                <a:latin typeface="Georgia"/>
              </a:rPr>
              <a:t> umożliwiają uzyskanie dużych mocy przy dużych częstotliwościach (100 GHz); ich sprawność wynosi kilka procent dla pracy ciągłej oraz 20-30% dla pracy impulsowej. Wzmacniacz z tymi diodami ma szerokie pasmo przenoszenia, dobrą liniowość fazy i amplitudy, niskie napięcie zasilania i małe szumy, ale ma małe moce wyjściowe i niezbyt wysoką stabilność temperaturową.</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Georgia"/>
              </a:rPr>
              <a:t>Diody IMPATT </a:t>
            </a:r>
            <a:r>
              <a:rPr b="0" lang="pl-PL" sz="2000" spc="-1" strike="noStrike">
                <a:solidFill>
                  <a:srgbClr val="000000"/>
                </a:solidFill>
                <a:latin typeface="Georgia"/>
              </a:rPr>
              <a:t>umożliwiają uzyskanie większych mocy, ale potrzebne jest większe napięcie zasilania (100 V). Sprawność 10-40%. Wzmacniacze z diodami IMPATT dają większe moce wyjściowe i lepszą stabilność temperaturową, ale małe pasmo przenoszenia, duże napięcie zasilan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Georgia"/>
              </a:rPr>
              <a:t>Diody BARITT </a:t>
            </a:r>
            <a:r>
              <a:rPr b="0" lang="pl-PL" sz="2000" spc="-1" strike="noStrike">
                <a:solidFill>
                  <a:srgbClr val="000000"/>
                </a:solidFill>
                <a:latin typeface="Georgia"/>
              </a:rPr>
              <a:t>służą do generacji fali ciągłej małej mocy (kilkaset mW) o częstotliwości &lt;12 GHz i sprawności 5%. Znajdują zastosowanie w małych radarach (policyjnych). Zasilacze zbudowane z diod BARITT charakteryzują się niskim poziomem szumó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300" spc="-1" strike="noStrike">
                <a:solidFill>
                  <a:srgbClr val="7b9899"/>
                </a:solidFill>
                <a:latin typeface="Georgia"/>
              </a:rPr>
              <a:t>Tranzystory mikrofalowe</a:t>
            </a:r>
            <a:endParaRPr b="0" lang="en-US" sz="3300" spc="-1" strike="noStrike">
              <a:solidFill>
                <a:srgbClr val="7b9899"/>
              </a:solidFill>
              <a:latin typeface="Georgia"/>
            </a:endParaRPr>
          </a:p>
        </p:txBody>
      </p:sp>
      <p:sp>
        <p:nvSpPr>
          <p:cNvPr id="686"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8553F-3C4D-4533-A6FF-5BBC46F1B543}"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sp>
        <p:nvSpPr>
          <p:cNvPr id="687" name="pole tekstowe 5"/>
          <p:cNvSpPr/>
          <p:nvPr/>
        </p:nvSpPr>
        <p:spPr>
          <a:xfrm>
            <a:off x="214200" y="1643040"/>
            <a:ext cx="8715600" cy="388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Georgia"/>
              </a:rPr>
              <a:t>Podzia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Georgia"/>
              </a:rPr>
              <a:t>Klasyfikacja ze względu na częstotliwość pracy:</a:t>
            </a:r>
            <a:endParaRPr b="0" lang="en-US" sz="2400" spc="-1" strike="noStrike">
              <a:solidFill>
                <a:srgbClr val="000000"/>
              </a:solidFill>
              <a:latin typeface="Arial"/>
            </a:endParaRPr>
          </a:p>
          <a:p>
            <a:pPr lvl="1" marL="457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Georgia"/>
              </a:rPr>
              <a:t> </a:t>
            </a:r>
            <a:r>
              <a:rPr b="0" lang="pl-PL" sz="2400" spc="-1" strike="noStrike">
                <a:solidFill>
                  <a:srgbClr val="000000"/>
                </a:solidFill>
                <a:latin typeface="Georgia"/>
              </a:rPr>
              <a:t>tranzystory małej częstotliwości (m.cz.)</a:t>
            </a:r>
            <a:endParaRPr b="0" lang="en-US" sz="2400" spc="-1" strike="noStrike">
              <a:solidFill>
                <a:srgbClr val="000000"/>
              </a:solidFill>
              <a:latin typeface="Arial"/>
            </a:endParaRPr>
          </a:p>
          <a:p>
            <a:pPr lvl="1" marL="457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Georgia"/>
              </a:rPr>
              <a:t> </a:t>
            </a:r>
            <a:r>
              <a:rPr b="0" lang="pl-PL" sz="2400" spc="-1" strike="noStrike">
                <a:solidFill>
                  <a:srgbClr val="000000"/>
                </a:solidFill>
                <a:latin typeface="Georgia"/>
              </a:rPr>
              <a:t>tranzystory średniej częstotliwości (śr.cz.)</a:t>
            </a:r>
            <a:endParaRPr b="0" lang="en-US" sz="2400" spc="-1" strike="noStrike">
              <a:solidFill>
                <a:srgbClr val="000000"/>
              </a:solidFill>
              <a:latin typeface="Arial"/>
            </a:endParaRPr>
          </a:p>
          <a:p>
            <a:pPr lvl="1" marL="457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Georgia"/>
              </a:rPr>
              <a:t> </a:t>
            </a:r>
            <a:r>
              <a:rPr b="0" lang="pl-PL" sz="2400" spc="-1" strike="noStrike">
                <a:solidFill>
                  <a:srgbClr val="000000"/>
                </a:solidFill>
                <a:latin typeface="Georgia"/>
              </a:rPr>
              <a:t>tranzystory wielkiej częstotliwości (w.cz.)</a:t>
            </a:r>
            <a:endParaRPr b="0" lang="en-US" sz="2400" spc="-1" strike="noStrike">
              <a:solidFill>
                <a:srgbClr val="000000"/>
              </a:solidFill>
              <a:latin typeface="Arial"/>
            </a:endParaRPr>
          </a:p>
          <a:p>
            <a:pPr lvl="1" marL="457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Georgia"/>
              </a:rPr>
              <a:t> </a:t>
            </a:r>
            <a:r>
              <a:rPr b="0" lang="pl-PL" sz="2400" spc="-1" strike="noStrike">
                <a:solidFill>
                  <a:srgbClr val="000000"/>
                </a:solidFill>
                <a:latin typeface="Georgia"/>
              </a:rPr>
              <a:t>tranzystory bardzo wielkiej częstotliwości (b.w.cz.)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8" name="Rectangle 4"/>
          <p:cNvSpPr/>
          <p:nvPr/>
        </p:nvSpPr>
        <p:spPr>
          <a:xfrm>
            <a:off x="285840" y="5269320"/>
            <a:ext cx="5975280" cy="1313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Małej częstotliwości </a:t>
            </a:r>
            <a:r>
              <a:rPr b="0" lang="pl-PL" sz="2000" spc="-1" strike="noStrike">
                <a:solidFill>
                  <a:srgbClr val="000000"/>
                </a:solidFill>
                <a:latin typeface="Georgia"/>
              </a:rPr>
              <a:t>	</a:t>
            </a:r>
            <a:r>
              <a:rPr b="0" lang="pl-PL" sz="2000" spc="-1" strike="noStrike">
                <a:solidFill>
                  <a:srgbClr val="000000"/>
                </a:solidFill>
                <a:latin typeface="Georgia"/>
              </a:rPr>
              <a:t>– do kilkudziesięciu MHz.</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Wielkiej częstotliwości</a:t>
            </a:r>
            <a:r>
              <a:rPr b="0" lang="pl-PL" sz="2000" spc="-1" strike="noStrike">
                <a:solidFill>
                  <a:srgbClr val="000000"/>
                </a:solidFill>
                <a:latin typeface="Georgia"/>
              </a:rPr>
              <a:t>	</a:t>
            </a:r>
            <a:r>
              <a:rPr b="0" lang="pl-PL" sz="2000" spc="-1" strike="noStrike">
                <a:solidFill>
                  <a:srgbClr val="000000"/>
                </a:solidFill>
                <a:latin typeface="Georgia"/>
              </a:rPr>
              <a:t>– nawet do kilku GHz.</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300" spc="-1" strike="noStrike">
                <a:solidFill>
                  <a:srgbClr val="7b9899"/>
                </a:solidFill>
                <a:latin typeface="Georgia"/>
              </a:rPr>
              <a:t>Tranzystory mikrofalowe</a:t>
            </a:r>
            <a:endParaRPr b="0" lang="en-US" sz="3300" spc="-1" strike="noStrike">
              <a:solidFill>
                <a:srgbClr val="7b9899"/>
              </a:solidFill>
              <a:latin typeface="Georgia"/>
            </a:endParaRPr>
          </a:p>
        </p:txBody>
      </p:sp>
      <p:sp>
        <p:nvSpPr>
          <p:cNvPr id="690"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E3D54-7BEF-4192-93C0-1C1827AC6B3E}"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sp>
        <p:nvSpPr>
          <p:cNvPr id="691" name="pole tekstowe 5"/>
          <p:cNvSpPr/>
          <p:nvPr/>
        </p:nvSpPr>
        <p:spPr>
          <a:xfrm>
            <a:off x="214200" y="1643040"/>
            <a:ext cx="8715600" cy="444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Georgia"/>
              </a:rPr>
              <a:t>Tranzystory b.w.cz.</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Georgia"/>
              </a:rPr>
              <a:t>Tranzystorami dla zakresu b.w.cz. (mikrofalowego) nazywa się tranzystory, których częstotliwość f</a:t>
            </a:r>
            <a:r>
              <a:rPr b="0" lang="pl-PL" sz="2400" spc="-1" strike="noStrike" baseline="-25000">
                <a:solidFill>
                  <a:srgbClr val="000000"/>
                </a:solidFill>
                <a:latin typeface="Georgia"/>
              </a:rPr>
              <a:t>T</a:t>
            </a:r>
            <a:r>
              <a:rPr b="0" lang="pl-PL" sz="2400" spc="-1" strike="noStrike">
                <a:solidFill>
                  <a:srgbClr val="000000"/>
                </a:solidFill>
                <a:latin typeface="Georgia"/>
              </a:rPr>
              <a:t> mieści się w zakresie mikrofalowym, czyli jest większa  niż 1 GHz.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Georgia"/>
              </a:rPr>
              <a:t>Tranzystory mikrofalowe dzieli się na trzy grup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Georgia"/>
              </a:rPr>
              <a:t>tranzystory małej mocy</a:t>
            </a:r>
            <a:r>
              <a:rPr b="0" lang="pl-PL" sz="2400" spc="-1" strike="noStrike">
                <a:solidFill>
                  <a:srgbClr val="000000"/>
                </a:solidFill>
                <a:latin typeface="Georgia"/>
              </a:rPr>
              <a:t> (do 0,3 W)</a:t>
            </a:r>
            <a:endParaRPr b="0" lang="en-US" sz="2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Georgia"/>
              </a:rPr>
              <a:t>tranzystory średniej mocy </a:t>
            </a:r>
            <a:r>
              <a:rPr b="0" lang="pl-PL" sz="2400" spc="-1" strike="noStrike">
                <a:solidFill>
                  <a:srgbClr val="000000"/>
                </a:solidFill>
                <a:latin typeface="Georgia"/>
              </a:rPr>
              <a:t>(od 0,3 do 5W)</a:t>
            </a:r>
            <a:endParaRPr b="0" lang="en-US" sz="2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Georgia"/>
              </a:rPr>
              <a:t>tranzystory dużej mocy</a:t>
            </a:r>
            <a:r>
              <a:rPr b="0" lang="pl-PL" sz="2400" spc="-1" strike="noStrike">
                <a:solidFill>
                  <a:srgbClr val="000000"/>
                </a:solidFill>
                <a:latin typeface="Georgia"/>
              </a:rPr>
              <a:t> (powyżej 5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300" spc="-1" strike="noStrike">
                <a:solidFill>
                  <a:srgbClr val="7b9899"/>
                </a:solidFill>
                <a:latin typeface="Georgia"/>
              </a:rPr>
              <a:t>Tranzystory mikrofalowe</a:t>
            </a:r>
            <a:endParaRPr b="0" lang="en-US" sz="3300" spc="-1" strike="noStrike">
              <a:solidFill>
                <a:srgbClr val="7b9899"/>
              </a:solidFill>
              <a:latin typeface="Georgia"/>
            </a:endParaRPr>
          </a:p>
        </p:txBody>
      </p:sp>
      <p:sp>
        <p:nvSpPr>
          <p:cNvPr id="693"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B41F0-9C3E-434D-B62E-E49573F36F08}"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sp>
        <p:nvSpPr>
          <p:cNvPr id="694" name="pole tekstowe 5"/>
          <p:cNvSpPr/>
          <p:nvPr/>
        </p:nvSpPr>
        <p:spPr>
          <a:xfrm>
            <a:off x="214200" y="1643040"/>
            <a:ext cx="8715600" cy="547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Georgia"/>
              </a:rPr>
              <a:t>Tranzystory małej moc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Georgia"/>
              </a:rPr>
              <a:t>Tranzystory niskoszumne małej mocy są wykorzystywane do pracy w wejściowych wzmacniaczach odbiorników mikrofalowych. W tranzystorach tych najważniejszym zadaniem jest uzyskanie maksymalnej wartości częstotliwości granicznej oraz minimalnej wartości rezystancji rozproszonej bazy r</a:t>
            </a:r>
            <a:r>
              <a:rPr b="0" lang="pl-PL" sz="2200" spc="-1" strike="noStrike" baseline="-25000">
                <a:solidFill>
                  <a:srgbClr val="000000"/>
                </a:solidFill>
                <a:latin typeface="Georgia"/>
              </a:rPr>
              <a:t>bb</a:t>
            </a:r>
            <a:r>
              <a:rPr b="0" lang="pl-PL" sz="2200" spc="-1" strike="noStrike">
                <a:solidFill>
                  <a:srgbClr val="000000"/>
                </a:solidFill>
                <a:latin typeface="Georgia"/>
              </a:rPr>
              <a:t>’  (im mniejsza jest ta rezystancja tym mniejsze są szumy tranzystora).</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Georgia"/>
              </a:rPr>
              <a:t>Mogą one pracować we wzmacniaczach wąsko- i szerokopasmowych. Istotnym oprócz wzmocnienia parametrem jest niski współczynnik szumów. Niekiedy tranzystory tej grupy są stosowane w układach generacyjnych, zwłaszcza gdy istnieje potrzeba otrzymania dużej czystości widmowej generowanego sygnału</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300" spc="-1" strike="noStrike">
                <a:solidFill>
                  <a:srgbClr val="7b9899"/>
                </a:solidFill>
                <a:latin typeface="Georgia"/>
              </a:rPr>
              <a:t>Tranzystory mikrofalowe</a:t>
            </a:r>
            <a:endParaRPr b="0" lang="en-US" sz="3300" spc="-1" strike="noStrike">
              <a:solidFill>
                <a:srgbClr val="7b9899"/>
              </a:solidFill>
              <a:latin typeface="Georgia"/>
            </a:endParaRPr>
          </a:p>
        </p:txBody>
      </p:sp>
      <p:sp>
        <p:nvSpPr>
          <p:cNvPr id="696"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57E37-904E-4D59-8B78-FBB7DB8694A5}"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sp>
        <p:nvSpPr>
          <p:cNvPr id="697" name="pole tekstowe 5"/>
          <p:cNvSpPr/>
          <p:nvPr/>
        </p:nvSpPr>
        <p:spPr>
          <a:xfrm>
            <a:off x="214200" y="1643040"/>
            <a:ext cx="8715600" cy="292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Georgia"/>
              </a:rPr>
              <a:t>Tranzystory średniej moc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Georgia"/>
              </a:rPr>
              <a:t>Tranzystory średniej mocy są uniwersalnymi przyrządami generacyjnymi i wzmacniającymi. Mając gorsze własności szumowe umożliwiają uzyskanie największych wzmocnień i szerokopasmową pracę zarówno generatorów, jak i wzmacniaczy.</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300" spc="-1" strike="noStrike">
                <a:solidFill>
                  <a:srgbClr val="7b9899"/>
                </a:solidFill>
                <a:latin typeface="Georgia"/>
              </a:rPr>
              <a:t>Tranzystory mikrofalowe</a:t>
            </a:r>
            <a:endParaRPr b="0" lang="en-US" sz="3300" spc="-1" strike="noStrike">
              <a:solidFill>
                <a:srgbClr val="7b9899"/>
              </a:solidFill>
              <a:latin typeface="Georgia"/>
            </a:endParaRPr>
          </a:p>
        </p:txBody>
      </p:sp>
      <p:sp>
        <p:nvSpPr>
          <p:cNvPr id="699"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29839-237F-4216-A475-E454EECDFCE5}"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sp>
        <p:nvSpPr>
          <p:cNvPr id="700" name="pole tekstowe 5"/>
          <p:cNvSpPr/>
          <p:nvPr/>
        </p:nvSpPr>
        <p:spPr>
          <a:xfrm>
            <a:off x="214200" y="1857240"/>
            <a:ext cx="8715600" cy="362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Georgia"/>
              </a:rPr>
              <a:t>Tranzystory dużej moc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Georgia"/>
              </a:rPr>
              <a:t>W tranzystorach dużej mocy zarówno dla małej i dużej częstotliwości w celu lepszego odprowadzenia ciepła obudowy są duże i posiadają jedną płaską i gładką powierzchnię zapewniającą dobry styk z radiatorem. Zwykle obudowa spełnia również rolę elektrody kolektora co zapewnia dobre odprowadzenie ciepła z obszaru złącza B-C, w którym powstaje go najwięcej. </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Georgia"/>
              </a:rPr>
              <a:t>W tranzystorach mikrofalowych istotne znaczenie ma również równomierny rozkład gęstości prądu emiter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300" spc="-1" strike="noStrike">
                <a:solidFill>
                  <a:srgbClr val="7b9899"/>
                </a:solidFill>
                <a:latin typeface="Georgia"/>
              </a:rPr>
              <a:t>Tranzystory mikrofalowe</a:t>
            </a:r>
            <a:endParaRPr b="0" lang="en-US" sz="3300" spc="-1" strike="noStrike">
              <a:solidFill>
                <a:srgbClr val="7b9899"/>
              </a:solidFill>
              <a:latin typeface="Georgia"/>
            </a:endParaRPr>
          </a:p>
        </p:txBody>
      </p:sp>
      <p:sp>
        <p:nvSpPr>
          <p:cNvPr id="702"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E6145-8E24-4BC4-8007-B58399F9A4AF}"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sp>
        <p:nvSpPr>
          <p:cNvPr id="703" name="pole tekstowe 5"/>
          <p:cNvSpPr/>
          <p:nvPr/>
        </p:nvSpPr>
        <p:spPr>
          <a:xfrm>
            <a:off x="214200" y="1643040"/>
            <a:ext cx="8715600" cy="1557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Georgia"/>
              </a:rPr>
              <a:t>Tranzystory dużej mocy</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Dwa najczęściej spotykane rozwiązania konstrukcyjne to struktur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704" name="Object 2"/>
          <p:cNvGraphicFramePr/>
          <p:nvPr/>
        </p:nvGraphicFramePr>
        <p:xfrm>
          <a:off x="285840" y="3000240"/>
          <a:ext cx="3000240" cy="2941920"/>
        </p:xfrm>
        <a:graphic>
          <a:graphicData uri="http://schemas.openxmlformats.org/presentationml/2006/ole">
            <p:oleObj r:id="rId1" spid="">
              <p:embed/>
              <p:pic>
                <p:nvPicPr>
                  <p:cNvPr id="705" name="Object 2" descr=""/>
                  <p:cNvPicPr/>
                  <p:nvPr/>
                </p:nvPicPr>
                <p:blipFill>
                  <a:blip r:embed="rId2"/>
                  <a:stretch/>
                </p:blipFill>
                <p:spPr>
                  <a:xfrm>
                    <a:off x="285840" y="3000240"/>
                    <a:ext cx="3000240" cy="2941920"/>
                  </a:xfrm>
                  <a:prstGeom prst="rect">
                    <a:avLst/>
                  </a:prstGeom>
                  <a:ln w="0">
                    <a:noFill/>
                  </a:ln>
                </p:spPr>
              </p:pic>
            </p:oleObj>
          </a:graphicData>
        </a:graphic>
      </p:graphicFrame>
      <p:pic>
        <p:nvPicPr>
          <p:cNvPr id="706" name="Picture 7" descr="grzebien"/>
          <p:cNvPicPr/>
          <p:nvPr/>
        </p:nvPicPr>
        <p:blipFill>
          <a:blip r:embed="rId3"/>
          <a:stretch/>
        </p:blipFill>
        <p:spPr>
          <a:xfrm>
            <a:off x="5786280" y="3000240"/>
            <a:ext cx="3000600" cy="2944800"/>
          </a:xfrm>
          <a:prstGeom prst="rect">
            <a:avLst/>
          </a:prstGeom>
          <a:ln w="0">
            <a:noFill/>
          </a:ln>
        </p:spPr>
      </p:pic>
      <p:sp>
        <p:nvSpPr>
          <p:cNvPr id="707" name="Rectangle 8"/>
          <p:cNvSpPr/>
          <p:nvPr/>
        </p:nvSpPr>
        <p:spPr>
          <a:xfrm>
            <a:off x="357120" y="6001200"/>
            <a:ext cx="27846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overlay</a:t>
            </a:r>
            <a:endParaRPr b="0" lang="en-US" sz="2000" spc="-1" strike="noStrike">
              <a:solidFill>
                <a:srgbClr val="000000"/>
              </a:solidFill>
              <a:latin typeface="Arial"/>
            </a:endParaRPr>
          </a:p>
        </p:txBody>
      </p:sp>
      <p:sp>
        <p:nvSpPr>
          <p:cNvPr id="708" name="Rectangle 8"/>
          <p:cNvSpPr/>
          <p:nvPr/>
        </p:nvSpPr>
        <p:spPr>
          <a:xfrm>
            <a:off x="6357960" y="6001200"/>
            <a:ext cx="1928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grzebieniow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300" spc="-1" strike="noStrike">
                <a:solidFill>
                  <a:srgbClr val="7b9899"/>
                </a:solidFill>
                <a:latin typeface="Georgia"/>
              </a:rPr>
              <a:t>Diody mikrofalowe</a:t>
            </a:r>
            <a:endParaRPr b="0" lang="en-US" sz="3300" spc="-1" strike="noStrike">
              <a:solidFill>
                <a:srgbClr val="7b9899"/>
              </a:solidFill>
              <a:latin typeface="Georgia"/>
            </a:endParaRPr>
          </a:p>
        </p:txBody>
      </p:sp>
      <p:sp>
        <p:nvSpPr>
          <p:cNvPr id="613"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48C97-40D4-4CBC-9952-0065228017BA}"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sp>
        <p:nvSpPr>
          <p:cNvPr id="614" name="pole tekstowe 5"/>
          <p:cNvSpPr/>
          <p:nvPr/>
        </p:nvSpPr>
        <p:spPr>
          <a:xfrm>
            <a:off x="142920" y="1714680"/>
            <a:ext cx="8858160" cy="445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Georgia"/>
              </a:rPr>
              <a:t>Diody przeznaczone do zastosowań w mikrofalowym zakresie częstotliwości pracują w pasmach: </a:t>
            </a:r>
            <a:endParaRPr b="0" lang="en-US" sz="2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Georgia"/>
              </a:rPr>
              <a:t> </a:t>
            </a:r>
            <a:r>
              <a:rPr b="0" lang="pl-PL" sz="2200" spc="-1" strike="noStrike">
                <a:solidFill>
                  <a:srgbClr val="000000"/>
                </a:solidFill>
                <a:latin typeface="Georgia"/>
              </a:rPr>
              <a:t>Pasmo decymetrowe UHF, 0.1&lt;</a:t>
            </a:r>
            <a:r>
              <a:rPr b="0" lang="el-GR" sz="2200" spc="-1" strike="noStrike">
                <a:solidFill>
                  <a:srgbClr val="000000"/>
                </a:solidFill>
                <a:latin typeface="Georgia"/>
              </a:rPr>
              <a:t>λ</a:t>
            </a:r>
            <a:r>
              <a:rPr b="0" lang="pl-PL" sz="2200" spc="-1" strike="noStrike">
                <a:solidFill>
                  <a:srgbClr val="000000"/>
                </a:solidFill>
                <a:latin typeface="Georgia"/>
              </a:rPr>
              <a:t>&lt;1m; 0.3&lt;f&lt;3 GHz, </a:t>
            </a:r>
            <a:endParaRPr b="0" lang="en-US" sz="2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Georgia"/>
              </a:rPr>
              <a:t> </a:t>
            </a:r>
            <a:r>
              <a:rPr b="0" lang="pl-PL" sz="2200" spc="-1" strike="noStrike">
                <a:solidFill>
                  <a:srgbClr val="000000"/>
                </a:solidFill>
                <a:latin typeface="Georgia"/>
              </a:rPr>
              <a:t>Pasmo centymetrowe SHF, 1&lt;</a:t>
            </a:r>
            <a:r>
              <a:rPr b="0" lang="el-GR" sz="2200" spc="-1" strike="noStrike">
                <a:solidFill>
                  <a:srgbClr val="000000"/>
                </a:solidFill>
                <a:latin typeface="Georgia"/>
              </a:rPr>
              <a:t>λ</a:t>
            </a:r>
            <a:r>
              <a:rPr b="0" lang="pl-PL" sz="2200" spc="-1" strike="noStrike">
                <a:solidFill>
                  <a:srgbClr val="000000"/>
                </a:solidFill>
                <a:latin typeface="Georgia"/>
              </a:rPr>
              <a:t>&lt;10cm, 3&lt;f&lt;30 GHz, </a:t>
            </a:r>
            <a:endParaRPr b="0" lang="en-US" sz="2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Georgia"/>
              </a:rPr>
              <a:t> </a:t>
            </a:r>
            <a:r>
              <a:rPr b="0" lang="pl-PL" sz="2200" spc="-1" strike="noStrike">
                <a:solidFill>
                  <a:srgbClr val="000000"/>
                </a:solidFill>
                <a:latin typeface="Georgia"/>
              </a:rPr>
              <a:t>Pasmo milimetrowe EHF 1&lt;</a:t>
            </a:r>
            <a:r>
              <a:rPr b="0" lang="el-GR" sz="2200" spc="-1" strike="noStrike">
                <a:solidFill>
                  <a:srgbClr val="000000"/>
                </a:solidFill>
                <a:latin typeface="Georgia"/>
              </a:rPr>
              <a:t>λ</a:t>
            </a:r>
            <a:r>
              <a:rPr b="0" lang="pl-PL" sz="2200" spc="-1" strike="noStrike">
                <a:solidFill>
                  <a:srgbClr val="000000"/>
                </a:solidFill>
                <a:latin typeface="Georgia"/>
              </a:rPr>
              <a:t>&lt;10 mm, 30&lt;f&lt; 300 GHz.</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Georgia"/>
              </a:rPr>
              <a:t>Podział diod mikrofalowych: </a:t>
            </a:r>
            <a:endParaRPr b="0" lang="en-US" sz="2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Georgia"/>
              </a:rPr>
              <a:t> </a:t>
            </a:r>
            <a:r>
              <a:rPr b="0" lang="pl-PL" sz="2200" spc="-1" strike="noStrike">
                <a:solidFill>
                  <a:srgbClr val="000000"/>
                </a:solidFill>
                <a:latin typeface="Georgia"/>
              </a:rPr>
              <a:t>diody ze zmienną rezystancją (warystory), </a:t>
            </a:r>
            <a:endParaRPr b="0" lang="en-US" sz="2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Georgia"/>
              </a:rPr>
              <a:t> </a:t>
            </a:r>
            <a:r>
              <a:rPr b="0" lang="pl-PL" sz="2200" spc="-1" strike="noStrike">
                <a:solidFill>
                  <a:srgbClr val="000000"/>
                </a:solidFill>
                <a:latin typeface="Georgia"/>
              </a:rPr>
              <a:t>diody ze zmienną reaktancją (waraktory), </a:t>
            </a:r>
            <a:endParaRPr b="0" lang="en-US" sz="2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Georgia"/>
              </a:rPr>
              <a:t> </a:t>
            </a:r>
            <a:r>
              <a:rPr b="0" lang="pl-PL" sz="2200" spc="-1" strike="noStrike">
                <a:solidFill>
                  <a:srgbClr val="000000"/>
                </a:solidFill>
                <a:latin typeface="Georgia"/>
              </a:rPr>
              <a:t>diody ze sterowaną impedancją, </a:t>
            </a:r>
            <a:endParaRPr b="0" lang="en-US" sz="2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Georgia"/>
              </a:rPr>
              <a:t> </a:t>
            </a:r>
            <a:r>
              <a:rPr b="0" lang="pl-PL" sz="2200" spc="-1" strike="noStrike">
                <a:solidFill>
                  <a:srgbClr val="000000"/>
                </a:solidFill>
                <a:latin typeface="Georgia"/>
              </a:rPr>
              <a:t>diody z ujemną rezystancją.</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300" spc="-1" strike="noStrike">
                <a:solidFill>
                  <a:srgbClr val="7b9899"/>
                </a:solidFill>
                <a:latin typeface="Georgia"/>
              </a:rPr>
              <a:t>Diody mikrofalowe</a:t>
            </a:r>
            <a:endParaRPr b="0" lang="en-US" sz="3300" spc="-1" strike="noStrike">
              <a:solidFill>
                <a:srgbClr val="7b9899"/>
              </a:solidFill>
              <a:latin typeface="Georgia"/>
            </a:endParaRPr>
          </a:p>
        </p:txBody>
      </p:sp>
      <p:sp>
        <p:nvSpPr>
          <p:cNvPr id="616"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46D02-3FCD-4F01-A688-3CAEAE1C5A4E}"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sp>
        <p:nvSpPr>
          <p:cNvPr id="617" name="pole tekstowe 5"/>
          <p:cNvSpPr/>
          <p:nvPr/>
        </p:nvSpPr>
        <p:spPr>
          <a:xfrm>
            <a:off x="142920" y="1500120"/>
            <a:ext cx="8858160" cy="52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Georgia"/>
              </a:rPr>
              <a:t>Warystory – elementy o nieliniowej charakterystyce prądowo - napięciowej; warystory stosuje się w układach detekcji oraz mieszaczach.</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Georgia"/>
              </a:rPr>
              <a:t>Diody ze sterowaną impedancją – diody p-i-n stosowane w mikrofalowych przełącznikach, bezpiecznikach, modulatorach i dzielnikach.</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Georgia"/>
              </a:rPr>
              <a:t>Ujemną rezystancją uzyskuje się w diodach tunelowych oraz generacyjnych (lawinowo - przelotowych, diodach Gunna).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Georgia"/>
              </a:rPr>
              <a:t>Stosuje się trzy rodzaje diod: </a:t>
            </a:r>
            <a:endParaRPr b="0" lang="en-US" sz="2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Georgia"/>
              </a:rPr>
              <a:t> </a:t>
            </a:r>
            <a:r>
              <a:rPr b="0" lang="pl-PL" sz="2200" spc="-1" strike="noStrike">
                <a:solidFill>
                  <a:srgbClr val="000000"/>
                </a:solidFill>
                <a:latin typeface="Georgia"/>
              </a:rPr>
              <a:t>ostrzowe, </a:t>
            </a:r>
            <a:endParaRPr b="0" lang="en-US" sz="2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Georgia"/>
              </a:rPr>
              <a:t> </a:t>
            </a:r>
            <a:r>
              <a:rPr b="0" lang="pl-PL" sz="2200" spc="-1" strike="noStrike">
                <a:solidFill>
                  <a:srgbClr val="000000"/>
                </a:solidFill>
                <a:latin typeface="Georgia"/>
              </a:rPr>
              <a:t>Schottky`ego, </a:t>
            </a:r>
            <a:endParaRPr b="0" lang="en-US" sz="2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Georgia"/>
              </a:rPr>
              <a:t> </a:t>
            </a:r>
            <a:r>
              <a:rPr b="0" lang="pl-PL" sz="2200" spc="-1" strike="noStrike">
                <a:solidFill>
                  <a:srgbClr val="000000"/>
                </a:solidFill>
                <a:latin typeface="Georgia"/>
              </a:rPr>
              <a:t>zwrotne.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300" spc="-1" strike="noStrike">
                <a:solidFill>
                  <a:srgbClr val="7b9899"/>
                </a:solidFill>
                <a:latin typeface="Georgia"/>
              </a:rPr>
              <a:t>Diody mikrofalowe</a:t>
            </a:r>
            <a:endParaRPr b="0" lang="en-US" sz="3300" spc="-1" strike="noStrike">
              <a:solidFill>
                <a:srgbClr val="7b9899"/>
              </a:solidFill>
              <a:latin typeface="Georgia"/>
            </a:endParaRPr>
          </a:p>
        </p:txBody>
      </p:sp>
      <p:sp>
        <p:nvSpPr>
          <p:cNvPr id="619"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AC81C-3DFA-44DD-B1F0-539B64DFAD7F}"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sp>
        <p:nvSpPr>
          <p:cNvPr id="620" name="pole tekstowe 5"/>
          <p:cNvSpPr/>
          <p:nvPr/>
        </p:nvSpPr>
        <p:spPr>
          <a:xfrm>
            <a:off x="214200" y="1643040"/>
            <a:ext cx="8715600" cy="47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Georgia"/>
              </a:rPr>
              <a:t>Parametry techniczne diod detekcyjnych i mieszającyc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Parametry charakterystyczne:</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 </a:t>
            </a:r>
            <a:r>
              <a:rPr b="0" lang="pl-PL" sz="2000" spc="-1" strike="noStrike">
                <a:solidFill>
                  <a:srgbClr val="000000"/>
                </a:solidFill>
                <a:latin typeface="Georgia"/>
              </a:rPr>
              <a:t>napięcie U</a:t>
            </a:r>
            <a:r>
              <a:rPr b="0" lang="pl-PL" sz="2000" spc="-1" strike="noStrike" baseline="-25000">
                <a:solidFill>
                  <a:srgbClr val="000000"/>
                </a:solidFill>
                <a:latin typeface="Georgia"/>
              </a:rPr>
              <a:t>F</a:t>
            </a:r>
            <a:r>
              <a:rPr b="0" lang="pl-PL" sz="2000" spc="-1" strike="noStrike">
                <a:solidFill>
                  <a:srgbClr val="000000"/>
                </a:solidFill>
                <a:latin typeface="Georgia"/>
              </a:rPr>
              <a:t> przy prądzie przewodzenia I</a:t>
            </a:r>
            <a:r>
              <a:rPr b="0" lang="pl-PL" sz="2000" spc="-1" strike="noStrike" baseline="-25000">
                <a:solidFill>
                  <a:srgbClr val="000000"/>
                </a:solidFill>
                <a:latin typeface="Georgia"/>
              </a:rPr>
              <a:t>F</a:t>
            </a:r>
            <a:r>
              <a:rPr b="0" lang="pl-PL" sz="2000" spc="-1" strike="noStrike">
                <a:solidFill>
                  <a:srgbClr val="000000"/>
                </a:solidFill>
                <a:latin typeface="Georgia"/>
              </a:rPr>
              <a:t>,</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 </a:t>
            </a:r>
            <a:r>
              <a:rPr b="0" lang="pl-PL" sz="2000" spc="-1" strike="noStrike">
                <a:solidFill>
                  <a:srgbClr val="000000"/>
                </a:solidFill>
                <a:latin typeface="Georgia"/>
              </a:rPr>
              <a:t>prąd I</a:t>
            </a:r>
            <a:r>
              <a:rPr b="0" lang="pl-PL" sz="2000" spc="-1" strike="noStrike" baseline="-25000">
                <a:solidFill>
                  <a:srgbClr val="000000"/>
                </a:solidFill>
                <a:latin typeface="Georgia"/>
              </a:rPr>
              <a:t>R</a:t>
            </a:r>
            <a:r>
              <a:rPr b="0" lang="pl-PL" sz="2000" spc="-1" strike="noStrike">
                <a:solidFill>
                  <a:srgbClr val="000000"/>
                </a:solidFill>
                <a:latin typeface="Georgia"/>
              </a:rPr>
              <a:t> przy napięciu wstecznym U</a:t>
            </a:r>
            <a:r>
              <a:rPr b="0" lang="pl-PL" sz="2000" spc="-1" strike="noStrike" baseline="-25000">
                <a:solidFill>
                  <a:srgbClr val="000000"/>
                </a:solidFill>
                <a:latin typeface="Georgia"/>
              </a:rPr>
              <a:t>R</a:t>
            </a:r>
            <a:r>
              <a:rPr b="0" lang="pl-PL" sz="2000" spc="-1" strike="noStrike">
                <a:solidFill>
                  <a:srgbClr val="000000"/>
                </a:solidFill>
                <a:latin typeface="Georgia"/>
              </a:rPr>
              <a:t>,</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 </a:t>
            </a:r>
            <a:r>
              <a:rPr b="0" lang="pl-PL" sz="2000" spc="-1" strike="noStrike">
                <a:solidFill>
                  <a:srgbClr val="000000"/>
                </a:solidFill>
                <a:latin typeface="Georgia"/>
              </a:rPr>
              <a:t>pasmo częstotliwości pracy,</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 </a:t>
            </a:r>
            <a:r>
              <a:rPr b="0" lang="pl-PL" sz="2000" spc="-1" strike="noStrike">
                <a:solidFill>
                  <a:srgbClr val="000000"/>
                </a:solidFill>
                <a:latin typeface="Georgia"/>
              </a:rPr>
              <a:t>czułość tangencjalna, prądowa i napięciowa,</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 </a:t>
            </a:r>
            <a:r>
              <a:rPr b="0" lang="pl-PL" sz="2000" spc="-1" strike="noStrike">
                <a:solidFill>
                  <a:srgbClr val="000000"/>
                </a:solidFill>
                <a:latin typeface="Georgia"/>
              </a:rPr>
              <a:t>impedancja wejściowa,</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 </a:t>
            </a:r>
            <a:r>
              <a:rPr b="0" lang="pl-PL" sz="2000" spc="-1" strike="noStrike">
                <a:solidFill>
                  <a:srgbClr val="000000"/>
                </a:solidFill>
                <a:latin typeface="Georgia"/>
              </a:rPr>
              <a:t>wejściowy współczynnik fali stojącej,</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 </a:t>
            </a:r>
            <a:r>
              <a:rPr b="0" lang="pl-PL" sz="2000" spc="-1" strike="noStrike">
                <a:solidFill>
                  <a:srgbClr val="000000"/>
                </a:solidFill>
                <a:latin typeface="Georgia"/>
              </a:rPr>
              <a:t>straty przemiany,</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 </a:t>
            </a:r>
            <a:r>
              <a:rPr b="0" lang="pl-PL" sz="2000" spc="-1" strike="noStrike">
                <a:solidFill>
                  <a:srgbClr val="000000"/>
                </a:solidFill>
                <a:latin typeface="Georgia"/>
              </a:rPr>
              <a:t>współczynnik szumów</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Parametry graniczne:</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 </a:t>
            </a:r>
            <a:r>
              <a:rPr b="0" lang="pl-PL" sz="2000" spc="-1" strike="noStrike">
                <a:solidFill>
                  <a:srgbClr val="000000"/>
                </a:solidFill>
                <a:latin typeface="Georgia"/>
              </a:rPr>
              <a:t>moc maksymalna,</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 </a:t>
            </a:r>
            <a:r>
              <a:rPr b="0" lang="pl-PL" sz="2000" spc="-1" strike="noStrike">
                <a:solidFill>
                  <a:srgbClr val="000000"/>
                </a:solidFill>
                <a:latin typeface="Georgia"/>
              </a:rPr>
              <a:t>energia przepalania,</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 </a:t>
            </a:r>
            <a:r>
              <a:rPr b="0" lang="pl-PL" sz="2000" spc="-1" strike="noStrike">
                <a:solidFill>
                  <a:srgbClr val="000000"/>
                </a:solidFill>
                <a:latin typeface="Georgia"/>
              </a:rPr>
              <a:t>temperatura dopuszczalna.</a:t>
            </a:r>
            <a:endParaRPr b="0" lang="en-US" sz="2000" spc="-1" strike="noStrike">
              <a:solidFill>
                <a:srgbClr val="000000"/>
              </a:solidFill>
              <a:latin typeface="Arial"/>
            </a:endParaRPr>
          </a:p>
        </p:txBody>
      </p:sp>
      <p:pic>
        <p:nvPicPr>
          <p:cNvPr id="621" name="Picture 2" descr=""/>
          <p:cNvPicPr/>
          <p:nvPr/>
        </p:nvPicPr>
        <p:blipFill>
          <a:blip r:embed="rId1"/>
          <a:stretch/>
        </p:blipFill>
        <p:spPr>
          <a:xfrm>
            <a:off x="5357880" y="3857760"/>
            <a:ext cx="3591000" cy="1761840"/>
          </a:xfrm>
          <a:prstGeom prst="rect">
            <a:avLst/>
          </a:prstGeom>
          <a:ln w="0">
            <a:noFill/>
          </a:ln>
        </p:spPr>
      </p:pic>
      <p:sp>
        <p:nvSpPr>
          <p:cNvPr id="622" name="pole tekstowe 5"/>
          <p:cNvSpPr/>
          <p:nvPr/>
        </p:nvSpPr>
        <p:spPr>
          <a:xfrm>
            <a:off x="5500800" y="5715000"/>
            <a:ext cx="3286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Schemat zastępczy dio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detekcyjnych i mieszających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300" spc="-1" strike="noStrike">
                <a:solidFill>
                  <a:srgbClr val="7b9899"/>
                </a:solidFill>
                <a:latin typeface="Georgia"/>
              </a:rPr>
              <a:t>Diody mikrofalowe</a:t>
            </a:r>
            <a:endParaRPr b="0" lang="en-US" sz="3300" spc="-1" strike="noStrike">
              <a:solidFill>
                <a:srgbClr val="7b9899"/>
              </a:solidFill>
              <a:latin typeface="Georgia"/>
            </a:endParaRPr>
          </a:p>
        </p:txBody>
      </p:sp>
      <p:sp>
        <p:nvSpPr>
          <p:cNvPr id="624"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38F4D-7847-4950-AD3B-C5393CE946B7}"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sp>
        <p:nvSpPr>
          <p:cNvPr id="625" name="pole tekstowe 5"/>
          <p:cNvSpPr/>
          <p:nvPr/>
        </p:nvSpPr>
        <p:spPr>
          <a:xfrm>
            <a:off x="214200" y="1500120"/>
            <a:ext cx="87156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100" spc="-1" strike="noStrike">
                <a:solidFill>
                  <a:srgbClr val="000000"/>
                </a:solidFill>
                <a:latin typeface="Georgia"/>
              </a:rPr>
              <a:t>1. Diody ostrzowe</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Georgia"/>
              </a:rPr>
              <a:t>Może mieć strukturę fizyczną złącza p-n albo złącza m-s z barierą Schottky’ego. Diody Ge – złącze p-n, diody Si (styk igły wolframowej z krzemem typu p), diody GaAs (styk igły fosforobrązowej z arsenkiem galu typu n). Bardzo mała pojemność złącza, duża częstotliwość pracy (2000 GHz).</a:t>
            </a:r>
            <a:endParaRPr b="0" lang="en-US" sz="2100" spc="-1" strike="noStrike">
              <a:solidFill>
                <a:srgbClr val="000000"/>
              </a:solidFill>
              <a:latin typeface="Arial"/>
            </a:endParaRPr>
          </a:p>
        </p:txBody>
      </p:sp>
      <p:pic>
        <p:nvPicPr>
          <p:cNvPr id="626" name="Picture 2" descr=""/>
          <p:cNvPicPr/>
          <p:nvPr/>
        </p:nvPicPr>
        <p:blipFill>
          <a:blip r:embed="rId1"/>
          <a:stretch/>
        </p:blipFill>
        <p:spPr>
          <a:xfrm>
            <a:off x="2820960" y="3500280"/>
            <a:ext cx="3502080" cy="266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300" spc="-1" strike="noStrike">
                <a:solidFill>
                  <a:srgbClr val="7b9899"/>
                </a:solidFill>
                <a:latin typeface="Georgia"/>
              </a:rPr>
              <a:t>Diody mikrofalowe</a:t>
            </a:r>
            <a:endParaRPr b="0" lang="en-US" sz="3300" spc="-1" strike="noStrike">
              <a:solidFill>
                <a:srgbClr val="7b9899"/>
              </a:solidFill>
              <a:latin typeface="Georgia"/>
            </a:endParaRPr>
          </a:p>
        </p:txBody>
      </p:sp>
      <p:sp>
        <p:nvSpPr>
          <p:cNvPr id="628"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CE88D-96A8-4E0B-845D-F4C762B353EF}"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sp>
        <p:nvSpPr>
          <p:cNvPr id="629" name="pole tekstowe 5"/>
          <p:cNvSpPr/>
          <p:nvPr/>
        </p:nvSpPr>
        <p:spPr>
          <a:xfrm>
            <a:off x="214200" y="1500120"/>
            <a:ext cx="871560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100" spc="-1" strike="noStrike">
                <a:solidFill>
                  <a:srgbClr val="000000"/>
                </a:solidFill>
                <a:latin typeface="Georgia"/>
              </a:rPr>
              <a:t>2. Diody Schottky’ego</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Georgia"/>
              </a:rPr>
              <a:t>Styk płaskiej elektrody metalowej z półprzewodnikiem – bardzo krótkie czasy przełączania. Ich mała bezwładność predysponuje je do zastosowań jako diody mieszające i detekcyjne (do 100 GHz). Najlepsze właściwości mają w zakresie wstecznym. W zakresie przewodzenia – duże napięcie progowe. Mała wartość rezystancji szeregowej, mały poziom szumów własnych, duża stabilność pracy i odporność na wstrząsy.</a:t>
            </a:r>
            <a:endParaRPr b="0" lang="en-US" sz="2100" spc="-1" strike="noStrike">
              <a:solidFill>
                <a:srgbClr val="000000"/>
              </a:solidFill>
              <a:latin typeface="Arial"/>
            </a:endParaRPr>
          </a:p>
        </p:txBody>
      </p:sp>
      <p:pic>
        <p:nvPicPr>
          <p:cNvPr id="630" name="Picture 8" descr=""/>
          <p:cNvPicPr/>
          <p:nvPr/>
        </p:nvPicPr>
        <p:blipFill>
          <a:blip r:embed="rId1"/>
          <a:srcRect l="926" t="18750" r="81497" b="74419"/>
          <a:stretch/>
        </p:blipFill>
        <p:spPr>
          <a:xfrm>
            <a:off x="2367000" y="4429080"/>
            <a:ext cx="4410000" cy="128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300" spc="-1" strike="noStrike">
                <a:solidFill>
                  <a:srgbClr val="7b9899"/>
                </a:solidFill>
                <a:latin typeface="Georgia"/>
              </a:rPr>
              <a:t>Diody mikrofalowe</a:t>
            </a:r>
            <a:endParaRPr b="0" lang="en-US" sz="3300" spc="-1" strike="noStrike">
              <a:solidFill>
                <a:srgbClr val="7b9899"/>
              </a:solidFill>
              <a:latin typeface="Georgia"/>
            </a:endParaRPr>
          </a:p>
        </p:txBody>
      </p:sp>
      <p:sp>
        <p:nvSpPr>
          <p:cNvPr id="632"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97E42-A6D8-4959-BB3D-F07497A3C8C6}"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sp>
        <p:nvSpPr>
          <p:cNvPr id="633" name="pole tekstowe 5"/>
          <p:cNvSpPr/>
          <p:nvPr/>
        </p:nvSpPr>
        <p:spPr>
          <a:xfrm>
            <a:off x="214200" y="1500120"/>
            <a:ext cx="871560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Georgia"/>
              </a:rPr>
              <a:t>3. Diody zwrotn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Dioda tunelowa o znikomo małym prądzie szczytu – złącze p+-n+ nieco słabiej domieszkowane, poziom Fermiego na krawędzi pasma zabronionego. Przy polaryzacji w kierunku przewodzenia nie ma prądu Esakiego, przy polaryzacji w kierunku wstecznym raptownie wzrasta tunelowy prąd Zenera. Stosuje się ja do detekcji i mieszania sygnałów przy odwróceniu roli obu kierunków polaryzacji (dioda dobrze przewodzi prąd w kierunku wstecznym, w pewnym zakresie polaryzacji w kierunku przewodzenia charakteryzuje się małym prądem). Zalety: małe napięcie progowe – duża czułość prądowa, duża szybkość działania, odporność na wpływ temperatury i promieniowania, mały poziom szumów własnych. Wykonuje się je z Ge o maksymalnej częstotliwości pracy 200 GHz.</a:t>
            </a:r>
            <a:endParaRPr b="0" lang="en-US" sz="2000" spc="-1" strike="noStrike">
              <a:solidFill>
                <a:srgbClr val="000000"/>
              </a:solidFill>
              <a:latin typeface="Arial"/>
            </a:endParaRPr>
          </a:p>
        </p:txBody>
      </p:sp>
      <p:pic>
        <p:nvPicPr>
          <p:cNvPr id="634" name="Picture 2" descr=""/>
          <p:cNvPicPr/>
          <p:nvPr/>
        </p:nvPicPr>
        <p:blipFill>
          <a:blip r:embed="rId1"/>
          <a:srcRect l="0" t="18553" r="82424" b="73637"/>
          <a:stretch/>
        </p:blipFill>
        <p:spPr>
          <a:xfrm>
            <a:off x="3071880" y="5357880"/>
            <a:ext cx="3000240" cy="1000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300" spc="-1" strike="noStrike">
                <a:solidFill>
                  <a:srgbClr val="7b9899"/>
                </a:solidFill>
                <a:latin typeface="Georgia"/>
              </a:rPr>
              <a:t>Diody mikrofalowe</a:t>
            </a:r>
            <a:endParaRPr b="0" lang="en-US" sz="3300" spc="-1" strike="noStrike">
              <a:solidFill>
                <a:srgbClr val="7b9899"/>
              </a:solidFill>
              <a:latin typeface="Georgia"/>
            </a:endParaRPr>
          </a:p>
        </p:txBody>
      </p:sp>
      <p:sp>
        <p:nvSpPr>
          <p:cNvPr id="636"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75E4C-D8B8-49A5-A06C-19494F2856FF}"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sp>
        <p:nvSpPr>
          <p:cNvPr id="637" name="pole tekstowe 5"/>
          <p:cNvSpPr/>
          <p:nvPr/>
        </p:nvSpPr>
        <p:spPr>
          <a:xfrm>
            <a:off x="285840" y="5072040"/>
            <a:ext cx="3786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Porównanie charakterystyki I(U) diody zwrotnej 1 i diody tunelowej 2</a:t>
            </a:r>
            <a:endParaRPr b="0" lang="en-US" sz="2000" spc="-1" strike="noStrike">
              <a:solidFill>
                <a:srgbClr val="000000"/>
              </a:solidFill>
              <a:latin typeface="Arial"/>
            </a:endParaRPr>
          </a:p>
        </p:txBody>
      </p:sp>
      <p:sp>
        <p:nvSpPr>
          <p:cNvPr id="638" name="pole tekstowe 5"/>
          <p:cNvSpPr/>
          <p:nvPr/>
        </p:nvSpPr>
        <p:spPr>
          <a:xfrm>
            <a:off x="4572000" y="5072040"/>
            <a:ext cx="42148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Porównanie typowych charakterystyk I(U) dla: diody zwrotnej 1; diody ostrzowej 2; diody Schottky`ego 3.</a:t>
            </a:r>
            <a:endParaRPr b="0" lang="en-US" sz="2000" spc="-1" strike="noStrike">
              <a:solidFill>
                <a:srgbClr val="000000"/>
              </a:solidFill>
              <a:latin typeface="Arial"/>
            </a:endParaRPr>
          </a:p>
        </p:txBody>
      </p:sp>
      <p:pic>
        <p:nvPicPr>
          <p:cNvPr id="639" name="Picture 2" descr=""/>
          <p:cNvPicPr/>
          <p:nvPr/>
        </p:nvPicPr>
        <p:blipFill>
          <a:blip r:embed="rId1"/>
          <a:stretch/>
        </p:blipFill>
        <p:spPr>
          <a:xfrm>
            <a:off x="285840" y="1785960"/>
            <a:ext cx="3962160" cy="3152880"/>
          </a:xfrm>
          <a:prstGeom prst="rect">
            <a:avLst/>
          </a:prstGeom>
          <a:ln w="0">
            <a:noFill/>
          </a:ln>
        </p:spPr>
      </p:pic>
      <p:pic>
        <p:nvPicPr>
          <p:cNvPr id="640" name="Picture 3" descr=""/>
          <p:cNvPicPr/>
          <p:nvPr/>
        </p:nvPicPr>
        <p:blipFill>
          <a:blip r:embed="rId2"/>
          <a:srcRect l="3243" t="0" r="0" b="0"/>
          <a:stretch/>
        </p:blipFill>
        <p:spPr>
          <a:xfrm>
            <a:off x="4429080" y="1785960"/>
            <a:ext cx="446724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weł</cp:lastModifiedBy>
  <dcterms:modified xsi:type="dcterms:W3CDTF">2010-02-18T13:33:04Z</dcterms:modified>
  <cp:revision>104</cp:revision>
  <dc:subject/>
  <dc:title>Zespół równań Maxwella  w postaci różniczkowej i całkowej. Interpretacja fizyczna poszczególnych równań oraz warunki brzegowe.</dc:title>
</cp:coreProperties>
</file>