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68C31-AB9A-443A-829E-A1EA6FFE2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8401C-E492-4E39-B057-C07831B87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D7B73-B841-45B9-863B-D23569A98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E35A8-E521-4118-8EDF-3EEC09E6A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67BDA-AF3B-4D5A-BDDF-969925BC5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B826F-CB46-49AD-A6AF-6C39122A9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9084E-598C-4F2A-A1A0-CB448720B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D713F-22E8-4E83-A7DC-0E0EB8F91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B013E-A613-417E-A4F0-974618B57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DB3F5-BD6C-4C88-A362-2DD6F1C55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8E04-9404-4DC0-8AFD-DBF27AEEF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B2C1B-A8F9-4D6E-B0AB-196E034E7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8C838-EFE1-4EAE-A3E8-739C1BC4A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93990-26F6-4C49-8930-CBF6DB6FF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A7145-1862-44E5-84CA-0CAD404A8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3F944-F75F-4E86-9701-F084A92DF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FEDFC-F5DC-422F-9828-EAB8FE4B4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0B200A-8C1A-4E1D-973C-5414AE5FB5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5273E-2BDD-4A45-AFD1-74EF1F679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3B218E-82D8-4A9D-9997-3F461406B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F0093-7AA7-4812-BDF9-CAAD2A1BD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E5594-D45C-4F35-8F58-8098B0891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AA436-7417-4B5A-B2E5-E4108A85E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682CAD-E0FF-430D-823C-1359A45B9C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C9055-6B7E-4F33-9F02-1C4323EEB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2289A-6CAA-4163-B517-73CC8CF54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950E2-6294-4A72-832F-E8F549B5D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4F126-6719-4005-B0F8-CF1260BF1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F2857D-319B-425E-8904-288780E3F6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D9E8C1-9E97-442F-95DE-D7271DDE57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CA7637-9156-41B1-9659-9C280875D3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B9553E-DA6D-4EAB-B9A9-586B1B1CC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801D4-9364-46C4-B095-6435B4111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226EC-E99B-4F8E-892B-11F9F5D05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64091-EE36-4027-83D3-66B0C7D78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F43C2-E117-40C4-AD1A-82F9369FA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2EA921-DA95-471B-8B0F-4F373F8E4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2EF7E-7001-4107-98E2-E0FD1C293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445B2-1A48-4AEE-A24F-3D0D0818E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ACF70-10F0-4D76-8EA8-9DAD51340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6DDBE-6F36-4DCF-8AF7-6C441180E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96711A-65FB-466C-B80F-EA5505CC93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C38498-D255-4A59-8915-3B8865EC6E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1DD4C5-4B14-4676-AB70-01C9984CDF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E94FF-ED11-497B-BE21-8B8876181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88AD2-CB29-4A38-B698-CCA36CE03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3B67D8-9640-467D-8F9B-EC8533788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C8A13F-C831-4EDD-9F55-F3242C576C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7233C-D848-4B71-9B18-63AC20F62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E2E127-6DF6-4A07-B3DF-9632803F7B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2498F-A550-4723-9A25-FD13B7148D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E7A4B-B6A0-4069-95EA-F7054DCFC6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8361C-9304-45E9-BB58-B63346088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D9125-4FFA-4ED1-921D-9DA4001CC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0B981C-4097-4D64-94D2-D0CA944C86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54200-EEDE-4C20-820F-6C9EEDF66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138995-9DF2-4AFD-9F3A-FB8225D45A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6C7B4E-0F7E-4EF2-9189-89C3EA80D1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F68EE-709F-49D1-B616-78175FF848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4A9076-BCB1-4137-A058-A92C6E7C1E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0B6E05-CA79-4FB6-85D8-56B980A02A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FD08A-08F2-4B68-A0A7-162CBD5F46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3B556C-2BEF-4C13-89E4-C34E9F8661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D0480-27B0-403B-8C69-5A4EF44DB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E7CDF-DC05-44C0-A31E-5136F296B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29CAEE-2C62-477B-8D20-1A3F87C16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EBEE7-BAFD-458A-8C19-C5FBD93FF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207592-4136-4F86-9148-635E75689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5ABA33-1DDA-4BCF-96D3-00BF2623DF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BAA350-22EC-4C39-B17B-E96306C00B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F6F8-06CF-4E1B-8F56-E55CAAB73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7CD6-5A4D-457F-87F6-D02FEE0C4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1427-B082-44AA-94DC-7E3FEA470C43}"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Dowolny kształt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Dowolny kształt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01A1-5099-48D8-9A67-D56073513C0F}" type="slidenum">
              <a:rPr b="0" lang="pl-P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Dowolny kształt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Dowolny kształt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BB97-ABA7-44E0-BB89-614E6C3D61BD}" type="slidenum">
              <a:rPr b="0" lang="pl-P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BEFE-F9F6-4A13-ACE2-E5FF64814B6F}"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4E2C-A549-41AC-96A9-A5537D10DCE3}"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D656-ED2E-45D7-8D1B-BB4538A4608E}"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ytuł 1" descr=""/>
          <p:cNvPicPr/>
          <p:nvPr/>
        </p:nvPicPr>
        <p:blipFill>
          <a:blip r:embed="rId1"/>
          <a:stretch/>
        </p:blipFill>
        <p:spPr>
          <a:xfrm>
            <a:off x="1420920" y="2139840"/>
            <a:ext cx="6491160" cy="2444760"/>
          </a:xfrm>
          <a:prstGeom prst="rect">
            <a:avLst/>
          </a:prstGeom>
          <a:ln w="0">
            <a:noFill/>
          </a:ln>
        </p:spPr>
      </p:pic>
      <p:sp>
        <p:nvSpPr>
          <p:cNvPr id="255" name="PlaceHolder 1"/>
          <p:cNvSpPr>
            <a:spLocks noGrp="1"/>
          </p:cNvSpPr>
          <p:nvPr>
            <p:ph type="subTitle"/>
          </p:nvPr>
        </p:nvSpPr>
        <p:spPr>
          <a:xfrm>
            <a:off x="5357520" y="5515200"/>
            <a:ext cx="3429000" cy="42840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27432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100" spc="-1" strike="noStrike">
                <a:solidFill>
                  <a:srgbClr val="ffffff"/>
                </a:solidFill>
                <a:latin typeface="Franklin Gothic Book"/>
              </a:rPr>
              <a:t>NORMY PRZEPŁYWNOŚCI</a:t>
            </a:r>
            <a:br>
              <a:rPr sz="4100"/>
            </a:br>
            <a:r>
              <a:rPr b="1" lang="pl-PL" sz="4100" spc="-1" strike="noStrike">
                <a:solidFill>
                  <a:srgbClr val="ffffff"/>
                </a:solidFill>
                <a:latin typeface="Franklin Gothic Book"/>
              </a:rPr>
              <a:t>W TECHNOLOGII ADSL</a:t>
            </a:r>
            <a:endParaRPr b="0" lang="en-US" sz="4100" spc="-1" strike="noStrike">
              <a:solidFill>
                <a:srgbClr val="ffffff"/>
              </a:solidFill>
              <a:latin typeface="Franklin Gothic Book"/>
            </a:endParaRPr>
          </a:p>
        </p:txBody>
      </p:sp>
      <p:graphicFrame>
        <p:nvGraphicFramePr>
          <p:cNvPr id="274" name=""/>
          <p:cNvGraphicFramePr/>
          <p:nvPr/>
        </p:nvGraphicFramePr>
        <p:xfrm>
          <a:off x="642960" y="1928880"/>
          <a:ext cx="8001000" cy="4429080"/>
        </p:xfrm>
        <a:graphic>
          <a:graphicData uri="http://schemas.openxmlformats.org/drawingml/2006/table">
            <a:tbl>
              <a:tblPr/>
              <a:tblGrid>
                <a:gridCol w="2000160"/>
                <a:gridCol w="2000160"/>
                <a:gridCol w="2000520"/>
                <a:gridCol w="2000160"/>
              </a:tblGrid>
              <a:tr h="738000">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Norma amerykańska </a:t>
                      </a:r>
                      <a:r>
                        <a:rPr b="1" lang="pl-PL" sz="1800" spc="-1" strike="noStrike">
                          <a:solidFill>
                            <a:srgbClr val="ffffff"/>
                          </a:solidFill>
                          <a:latin typeface="Times New Roman"/>
                          <a:ea typeface="Times New Roman"/>
                        </a:rPr>
                        <a:t>ANSI</a:t>
                      </a:r>
                      <a:endParaRPr b="0" lang="en-US" sz="1800" spc="-1" strike="noStrike">
                        <a:solidFill>
                          <a:srgbClr val="ffffff"/>
                        </a:solidFill>
                        <a:latin typeface="Arial"/>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Norma europejska </a:t>
                      </a:r>
                      <a:r>
                        <a:rPr b="1" lang="pl-PL" sz="1800" spc="-1" strike="noStrike">
                          <a:solidFill>
                            <a:srgbClr val="ffffff"/>
                          </a:solidFill>
                          <a:latin typeface="Times New Roman"/>
                          <a:ea typeface="Times New Roman"/>
                        </a:rPr>
                        <a:t>ETSI</a:t>
                      </a:r>
                      <a:endParaRPr b="0" lang="en-US" sz="1800" spc="-1" strike="noStrike">
                        <a:solidFill>
                          <a:srgbClr val="ffffff"/>
                        </a:solidFill>
                        <a:latin typeface="Arial"/>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8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Do abonenta (Mb/s)</a:t>
                      </a:r>
                      <a:endParaRPr b="0" lang="en-US" sz="18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Od abonenta (kb/s)</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Do abonenta (Mb/s)</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Od abonenta (kb/s)</a:t>
                      </a:r>
                      <a:endParaRPr b="0" lang="en-US" sz="18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7380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6,144</a:t>
                      </a:r>
                      <a:endParaRPr b="0" lang="en-US" sz="18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640</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8,192</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640</a:t>
                      </a:r>
                      <a:endParaRPr b="0" lang="en-US" sz="18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738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4,608</a:t>
                      </a:r>
                      <a:endParaRPr b="0" lang="en-US" sz="18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384</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6,144</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384</a:t>
                      </a:r>
                      <a:endParaRPr b="0" lang="en-US" sz="18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7380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3,072</a:t>
                      </a:r>
                      <a:endParaRPr b="0" lang="en-US" sz="18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160</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4,096</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160</a:t>
                      </a:r>
                      <a:endParaRPr b="0" lang="en-US" sz="18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738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1,536</a:t>
                      </a:r>
                      <a:endParaRPr b="0" lang="en-US" sz="18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64</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2,048</a:t>
                      </a:r>
                      <a:endParaRPr b="0" lang="en-US" sz="18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16-176</a:t>
                      </a:r>
                      <a:endParaRPr b="0" lang="en-US" sz="18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27432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100" spc="-1" strike="noStrike">
                <a:solidFill>
                  <a:srgbClr val="ffffff"/>
                </a:solidFill>
                <a:latin typeface="Franklin Gothic Book"/>
              </a:rPr>
              <a:t>PRZEPŁYWNOŚĆ W ZALEŻNOŚCI</a:t>
            </a:r>
            <a:br>
              <a:rPr sz="4100"/>
            </a:br>
            <a:r>
              <a:rPr b="1" lang="pl-PL" sz="4100" spc="-1" strike="noStrike">
                <a:solidFill>
                  <a:srgbClr val="ffffff"/>
                </a:solidFill>
                <a:latin typeface="Franklin Gothic Book"/>
              </a:rPr>
              <a:t>OD ŚREDNICY I DŁUGOŚCI KABLA</a:t>
            </a:r>
            <a:endParaRPr b="0" lang="en-US" sz="4100" spc="-1" strike="noStrike">
              <a:solidFill>
                <a:srgbClr val="ffffff"/>
              </a:solidFill>
              <a:latin typeface="Franklin Gothic Book"/>
            </a:endParaRPr>
          </a:p>
        </p:txBody>
      </p:sp>
      <p:graphicFrame>
        <p:nvGraphicFramePr>
          <p:cNvPr id="276" name=""/>
          <p:cNvGraphicFramePr/>
          <p:nvPr/>
        </p:nvGraphicFramePr>
        <p:xfrm>
          <a:off x="714240" y="1643040"/>
          <a:ext cx="7572600" cy="4843440"/>
        </p:xfrm>
        <a:graphic>
          <a:graphicData uri="http://schemas.openxmlformats.org/drawingml/2006/table">
            <a:tbl>
              <a:tblPr/>
              <a:tblGrid>
                <a:gridCol w="2524320"/>
                <a:gridCol w="2523960"/>
                <a:gridCol w="2524320"/>
              </a:tblGrid>
              <a:tr h="914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pływność (Mb/s)</a:t>
                      </a:r>
                      <a:endParaRPr b="0" lang="en-US" sz="2000" spc="-1" strike="noStrike">
                        <a:solidFill>
                          <a:srgbClr val="ffffff"/>
                        </a:solidFill>
                        <a:latin typeface="Arial"/>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Średnica przewodów (mm)</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ługość linii (km)</a:t>
                      </a:r>
                      <a:endParaRPr b="0" lang="en-US" sz="2000" spc="-1" strike="noStrike">
                        <a:solidFill>
                          <a:srgbClr val="ffffff"/>
                        </a:solidFill>
                        <a:latin typeface="Arial"/>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r>
              <a:tr h="7858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2</a:t>
                      </a:r>
                      <a:endParaRPr b="0" lang="en-US" sz="20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0,5</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5,5</a:t>
                      </a:r>
                      <a:endParaRPr b="0" lang="en-US" sz="20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2</a:t>
                      </a:r>
                      <a:endParaRPr b="0" lang="en-US" sz="20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0,4</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4,6</a:t>
                      </a:r>
                      <a:endParaRPr b="0" lang="en-US" sz="20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6.1</a:t>
                      </a:r>
                      <a:endParaRPr b="0" lang="en-US" sz="20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0,5</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3,7</a:t>
                      </a:r>
                      <a:endParaRPr b="0" lang="en-US" sz="20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6.1</a:t>
                      </a:r>
                      <a:endParaRPr b="0" lang="en-US" sz="20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0,4</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2,7</a:t>
                      </a:r>
                      <a:endParaRPr b="0" lang="en-US" sz="20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8.1</a:t>
                      </a:r>
                      <a:endParaRPr b="0" lang="en-US" sz="2000" spc="-1" strike="noStrike">
                        <a:solidFill>
                          <a:srgbClr val="ffffff"/>
                        </a:solidFill>
                        <a:latin typeface="Arial"/>
                      </a:endParaRPr>
                    </a:p>
                  </a:txBody>
                  <a:tcPr anchor="ctr"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0,5</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2,7</a:t>
                      </a:r>
                      <a:endParaRPr b="0" lang="en-US" sz="2000" spc="-1" strike="noStrike">
                        <a:solidFill>
                          <a:srgbClr val="ffffff"/>
                        </a:solidFill>
                        <a:latin typeface="Arial"/>
                      </a:endParaRPr>
                    </a:p>
                  </a:txBody>
                  <a:tcPr anchor="ctr"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ffffff"/>
                </a:solidFill>
                <a:latin typeface="Franklin Gothic Book"/>
              </a:rPr>
              <a:t>RADSL</a:t>
            </a:r>
            <a:endParaRPr b="0" lang="en-US" sz="4600" spc="-1" strike="noStrike">
              <a:solidFill>
                <a:srgbClr val="ffffff"/>
              </a:solidFill>
              <a:latin typeface="Franklin Gothic Book"/>
            </a:endParaRPr>
          </a:p>
        </p:txBody>
      </p:sp>
      <p:sp>
        <p:nvSpPr>
          <p:cNvPr id="278" name="pole tekstowe 3"/>
          <p:cNvSpPr/>
          <p:nvPr/>
        </p:nvSpPr>
        <p:spPr>
          <a:xfrm>
            <a:off x="0" y="1000080"/>
            <a:ext cx="914400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RADSL (Rate Adaptive DSL) jest to adaptacyjna wersja dostępu asymetrycznego, umożliwia automatyczne dopasowanie się współpracujących modemów do przepływności aktualnie dostępnych w torze transmisyjnym. Jest to najbardziej efektywna przekazu przez istniejące kanały informacyjne z przepływnością zmieniającą się dynamicznie, nawet w trakcie korzystania z konkretnej usługi telekomunikacyjnej. W modemach wykonanych w technologii CAP programowa zmiana liczby bitów informacyjnych przypadających na jeden zakodowany symbol (od 3 do 8 bitów), w połączeniu ze zmienną szybkością modulacji symboli (360, 656, 952 Bd), umożliwia dostrojenie szybkości transmisji – dyskretnymi krokami co 320 kb/s – do optymalnej przepływności kanału. Dla pasma dosyłowego „w dół” – w zakresie szybkości od 680 kb/s do maksymalnej 7,616 Mb/s, natomiast dla pasma interakcyjnego „w górę” – również krokami w granicach od 136 kb/s do 1,088 Mb/s. Procedura adaptacyjna przepływności w modemach wykonanych w technologii DMT umożliwia dostosowanie szybkości użytkowej w każdym podkanale oddzielni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7432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ffffff"/>
                </a:solidFill>
                <a:latin typeface="Franklin Gothic Book"/>
              </a:rPr>
              <a:t>CDSL</a:t>
            </a:r>
            <a:endParaRPr b="0" lang="en-US" sz="4600" spc="-1" strike="noStrike">
              <a:solidFill>
                <a:srgbClr val="ffffff"/>
              </a:solidFill>
              <a:latin typeface="Franklin Gothic Book"/>
            </a:endParaRPr>
          </a:p>
        </p:txBody>
      </p:sp>
      <p:sp>
        <p:nvSpPr>
          <p:cNvPr id="280" name="pole tekstowe 3"/>
          <p:cNvSpPr/>
          <p:nvPr/>
        </p:nvSpPr>
        <p:spPr>
          <a:xfrm>
            <a:off x="0" y="1643040"/>
            <a:ext cx="914400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Najnowszą formą powszechnego asymetrycznego dostępu CDSL (Consumer DSL), lansowana od niedawna przez Rockwella jako technologia Lite DSL, jest przewidywana dla klientów o umiarkowanych potrzebach komunikacyjnych. W technologii CDSL maksymalna szybkość transmisji „w dół” do abonenta wynosi 1 Mb/s, natomiast interakcja użytkownika nie przekracza 128 kb/s. W odróżnieniu od innych technologii DSL, integrujących głos z przekazem danych, modemy wykonane w technologii Lite DSL nie potrzebują wydzielonej przystawki abonenckiej (set-top-box) do jednoczesnej transmisji mowy i danych, co upodabnia je do stosowanych do tej pory klasycznych modemów analogowy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ffffff"/>
                </a:solidFill>
                <a:latin typeface="Franklin Gothic Book"/>
              </a:rPr>
              <a:t>VDSL</a:t>
            </a:r>
            <a:endParaRPr b="0" lang="en-US" sz="4600" spc="-1" strike="noStrike">
              <a:solidFill>
                <a:srgbClr val="ffffff"/>
              </a:solidFill>
              <a:latin typeface="Franklin Gothic Book"/>
            </a:endParaRPr>
          </a:p>
        </p:txBody>
      </p:sp>
      <p:sp>
        <p:nvSpPr>
          <p:cNvPr id="282" name="pole tekstowe 3"/>
          <p:cNvSpPr/>
          <p:nvPr/>
        </p:nvSpPr>
        <p:spPr>
          <a:xfrm>
            <a:off x="0" y="1143000"/>
            <a:ext cx="9144000" cy="540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Arial"/>
              </a:rPr>
              <a:t>Technologia VDSL </a:t>
            </a:r>
            <a:r>
              <a:rPr b="0" i="1" lang="pl-PL" sz="1700" spc="-1" strike="noStrike">
                <a:solidFill>
                  <a:srgbClr val="ffffff"/>
                </a:solidFill>
                <a:latin typeface="Arial"/>
              </a:rPr>
              <a:t>(Very High speed Digital Subscriber Line) </a:t>
            </a:r>
            <a:r>
              <a:rPr b="0" lang="pl-PL" sz="1700" spc="-1" strike="noStrike">
                <a:solidFill>
                  <a:srgbClr val="ffffff"/>
                </a:solidFill>
                <a:latin typeface="Arial"/>
              </a:rPr>
              <a:t>jest stosowana w cyfrowych pętlach abonenckich o bardzo dużej prędkości transmisji (10 Mbit/s i więcej). W systemach VDSL łącze światłowodowe doprowadza strumień danych do wyniesionego układu komutacyjnego, z którego, przy wykorzystaniu skrętki i kabli koncentrycznych, dane w postaci cyfrowej rozprowadzane są w promieniu do kilkuset metrów. Prędkość transmisji umożliwia realizację usług multimedialnych.</a:t>
            </a:r>
            <a:r>
              <a:rPr b="0" lang="pl-PL" sz="1700" spc="-1" strike="noStrike" baseline="30000">
                <a:solidFill>
                  <a:srgbClr val="ffffff"/>
                </a:solidFill>
                <a:latin typeface="Arial"/>
              </a:rPr>
              <a:t>15</a:t>
            </a:r>
            <a:endParaRPr b="0" lang="en-US" sz="17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Arial"/>
              </a:rPr>
              <a:t>System VDSL służy do transmisji sygnałów cyfrowych o przepustowości kilkudziesięciu Mbit/s przez parę telefoniczną. Umożliwia transmisję dwukierunkową, w trybie symetrycznym lub asymetrycznym. Prędkości transmisji wynikają z podziału prędkości kanonicznej SDH 155.52 Mbit/s. Tabela przedstawia te wartości wraz z odpowiadającymi im długościami linii. </a:t>
            </a:r>
            <a:endParaRPr b="0" lang="en-US" sz="17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Arial"/>
              </a:rPr>
              <a:t>Szybkość transmisji w dół ogranicza zasięg systemu. Spowodowane jest to tych iż transmisja w tym kierunku odbywa się w wyższych pasmach częstotliwości oraz odznacza się dużymi przepływnościami. Wraz z wzrostem długości łącza zmniejsza się szybkość transmisji.</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57160" y="-36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ffffff"/>
                </a:solidFill>
                <a:latin typeface="Franklin Gothic Book"/>
              </a:rPr>
              <a:t>HDSL</a:t>
            </a:r>
            <a:endParaRPr b="0" lang="en-US" sz="4600" spc="-1" strike="noStrike">
              <a:solidFill>
                <a:srgbClr val="ffffff"/>
              </a:solidFill>
              <a:latin typeface="Franklin Gothic Book"/>
            </a:endParaRPr>
          </a:p>
        </p:txBody>
      </p:sp>
      <p:sp>
        <p:nvSpPr>
          <p:cNvPr id="284" name="pole tekstowe 3"/>
          <p:cNvSpPr/>
          <p:nvPr/>
        </p:nvSpPr>
        <p:spPr>
          <a:xfrm>
            <a:off x="0" y="949320"/>
            <a:ext cx="914400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HDSL to technika symetrycznego cyfrowego łącza abonenckiego - umożliwia dwukierunkowe przesyłanie strumieni 2,048 Mbit/s na jednej, dwóch lub trzech parach przewodów miedzianych. Jednoparowe łącze HDSL jest często wyróżniane jako technika transmisyjna SDSL (Single - pair Digital Subscriber Line). Charakteryzuje się ona mniejszym zasięgiem transmisji niż HDSL kilkuparowy, lecz jej podstawową zaletą jest to, że wykorzystuje jedną parę przewodów miedzianych, którą zawsze dysponuje abonent. Stosowana coraz częściej w telekomunikacji technologia HDSL umożliwia uzyskanie przepływności 2 Mb/s za pomocą zwykłej dwuprzewodowej linii telefonicznej. Dedykowany odcinek symetrycznej linii telefonicznej może być wykorzystany jako szerokopasmowy trakt cyfrowy 2 Mb/s bądź traktowany jako medium transmisyjne do jednoczesnego przekazu 30 zwykłych rozmów telefonicznych za pomocą jednej pary przewodów miedzianych.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Początkowo do instalacji urządzeń wykonanych w technologii HDSL niezbędne były trzy pary linii symetrycznych, obecnie największą popularność uzyskały systemy wykorzystujące dwie pary linii telefonicznych. W systemie opartym na dwóch symetrycznych liniach strumień informacji cyfrowej o przepływności 2,048 Mb/s jest dzielony dla każdego z kierunków na dwa strumienie - zawierające po 1024 kb/s informacji użytkownika - przesyłane równolegle i równocześnie w obu kierunkach przy użyciu dwóch par przewodów. Zastosowana po obydwu stronach łącza technika kompensacji echa umożliwia prowadzenie w pełni dupleksową transmisję cyfrową dla każdej z par oddzielni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ytuł 1"/>
          <p:cNvSpPr/>
          <p:nvPr/>
        </p:nvSpPr>
        <p:spPr>
          <a:xfrm>
            <a:off x="1428840" y="2278080"/>
            <a:ext cx="6480000" cy="230184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600" spc="-1" strike="noStrike">
                <a:solidFill>
                  <a:srgbClr val="ffffff"/>
                </a:solidFill>
                <a:latin typeface="Franklin Gothic Book"/>
              </a:rPr>
              <a:t>KONIEC</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27432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ffffff"/>
                </a:solidFill>
                <a:latin typeface="Franklin Gothic Book"/>
              </a:rPr>
              <a:t>DSL</a:t>
            </a:r>
            <a:endParaRPr b="0" lang="en-US" sz="4600" spc="-1" strike="noStrike">
              <a:solidFill>
                <a:srgbClr val="ffffff"/>
              </a:solidFill>
              <a:latin typeface="Franklin Gothic Book"/>
            </a:endParaRPr>
          </a:p>
        </p:txBody>
      </p:sp>
      <p:sp>
        <p:nvSpPr>
          <p:cNvPr id="257" name="pole tekstowe 3"/>
          <p:cNvSpPr/>
          <p:nvPr/>
        </p:nvSpPr>
        <p:spPr>
          <a:xfrm>
            <a:off x="357120" y="1503360"/>
            <a:ext cx="85726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DSL</a:t>
            </a:r>
            <a:r>
              <a:rPr b="0" lang="pl-PL" sz="1800" spc="-1" strike="noStrike">
                <a:solidFill>
                  <a:srgbClr val="ffffff"/>
                </a:solidFill>
                <a:latin typeface="Arial"/>
              </a:rPr>
              <a:t> (ang. </a:t>
            </a:r>
            <a:r>
              <a:rPr b="0" i="1" lang="pl-PL" sz="1800" spc="-1" strike="noStrike">
                <a:solidFill>
                  <a:srgbClr val="ffffff"/>
                </a:solidFill>
                <a:latin typeface="Arial"/>
              </a:rPr>
              <a:t>Digital Subscriber Line</a:t>
            </a:r>
            <a:r>
              <a:rPr b="0" lang="pl-PL" sz="1800" spc="-1" strike="noStrike">
                <a:solidFill>
                  <a:srgbClr val="ffffff"/>
                </a:solidFill>
                <a:latin typeface="Arial"/>
              </a:rPr>
              <a:t>) - cyfrowa linia abonencka, rodzina technologii szerokopasmowego dostępu do Internetu. Standardowa prędkość odbierania danych waha się od 128 kb/s do 24000 kb/s, w zależności od zastosowanej technologii DSL. Dla technologii ADSL prędkość wysyłania danych jest niższa od prędkości ich odbierania, natomiast prędkości te są symetryczne w technologii SDSL. Wynalazcą modemów DSL był Joseph W. Lechleitter, pracownik firmy Bellcore, który zademonstrował projekt budowy tych urządzeń w latach 80.</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Według szacunków firmy badawczej Point Topic pod koniec marca 2004 r. na całym świecie było 73,4 mln użytkowników dostępu do Internetu w technologii DSL (najwięcej w Niemczech - ok. 15 mln, Chinach – 13,9 mln, Japonii – 11 mln i USA – ok. 10,5 mln). Szacuje się, że w Polsce z technologii DSL korzystało (koniec 2006 r) ok. 1,5 mln osó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Obraz 3" descr=""/>
          <p:cNvPicPr/>
          <p:nvPr/>
        </p:nvPicPr>
        <p:blipFill>
          <a:blip r:embed="rId1"/>
          <a:stretch/>
        </p:blipFill>
        <p:spPr>
          <a:xfrm>
            <a:off x="642960" y="2286000"/>
            <a:ext cx="3406680" cy="3071880"/>
          </a:xfrm>
          <a:prstGeom prst="rect">
            <a:avLst/>
          </a:prstGeom>
          <a:ln w="0">
            <a:noFill/>
          </a:ln>
        </p:spPr>
      </p:pic>
      <p:sp>
        <p:nvSpPr>
          <p:cNvPr id="259" name="pole tekstowe 4"/>
          <p:cNvSpPr/>
          <p:nvPr/>
        </p:nvSpPr>
        <p:spPr>
          <a:xfrm>
            <a:off x="1643040" y="500040"/>
            <a:ext cx="5857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Franklin Gothic Book"/>
              </a:rPr>
              <a:t>MODEM DSL</a:t>
            </a:r>
            <a:endParaRPr b="0" lang="en-US" sz="4400" spc="-1" strike="noStrike">
              <a:solidFill>
                <a:srgbClr val="ffffff"/>
              </a:solidFill>
              <a:latin typeface="Arial"/>
            </a:endParaRPr>
          </a:p>
        </p:txBody>
      </p:sp>
      <p:pic>
        <p:nvPicPr>
          <p:cNvPr id="260" name="Picture 2" descr=""/>
          <p:cNvPicPr/>
          <p:nvPr/>
        </p:nvPicPr>
        <p:blipFill>
          <a:blip r:embed="rId2"/>
          <a:stretch/>
        </p:blipFill>
        <p:spPr>
          <a:xfrm>
            <a:off x="3929040" y="2286000"/>
            <a:ext cx="4608360" cy="307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ffffff"/>
                </a:solidFill>
                <a:latin typeface="Franklin Gothic Book"/>
              </a:rPr>
              <a:t>HISTORIA</a:t>
            </a:r>
            <a:endParaRPr b="0" lang="en-US" sz="4600" spc="-1" strike="noStrike">
              <a:solidFill>
                <a:srgbClr val="ffffff"/>
              </a:solidFill>
              <a:latin typeface="Franklin Gothic Book"/>
            </a:endParaRPr>
          </a:p>
        </p:txBody>
      </p:sp>
      <p:sp>
        <p:nvSpPr>
          <p:cNvPr id="262" name="pole tekstowe 3"/>
          <p:cNvSpPr/>
          <p:nvPr/>
        </p:nvSpPr>
        <p:spPr>
          <a:xfrm>
            <a:off x="0" y="1000080"/>
            <a:ext cx="9144000" cy="579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Arial"/>
              </a:rPr>
              <a:t>Początek technologii DSL datuje się na rok 1988, kiedy pracownicy firmy Bellcore opracowali metodę transmisji sygnału cyfrowego przez niewykorzystywane pasmo wyższych częstotliwości dostępne na zwykłej linii telefonicznej łączącej centralę telefoniczną z lokalem abonenta. Technologia DSL umożliwia wykorzystanie istniejących linii telefonicznych do komunikacji cyfrowej i przesyłanie sygnału cyfrowego parą przewodów miedzianych zwykłej linii telefonicznej (tzw. skrętką) bez zakłócania usług głosowych. Jednakże operatorzy miejscowych central telefonicznych ILEC (ang. </a:t>
            </a:r>
            <a:r>
              <a:rPr b="0" i="1" lang="pl-PL" sz="1700" spc="-1" strike="noStrike">
                <a:solidFill>
                  <a:srgbClr val="ffffff"/>
                </a:solidFill>
                <a:latin typeface="Arial"/>
              </a:rPr>
              <a:t>Incumbent Local Exchange Carries</a:t>
            </a:r>
            <a:r>
              <a:rPr b="0" lang="pl-PL" sz="1700" spc="-1" strike="noStrike">
                <a:solidFill>
                  <a:srgbClr val="ffffff"/>
                </a:solidFill>
                <a:latin typeface="Arial"/>
              </a:rPr>
              <a:t>) nie byli entuzjastycznie nastawieni do DSL, według nich nie było opłacalne instalowanie drugiej linii telefonicznej dla klientów, którzy preferowali połączenia dodzwaniane (ang. </a:t>
            </a:r>
            <a:r>
              <a:rPr b="0" i="1" lang="pl-PL" sz="1700" spc="-1" strike="noStrike">
                <a:solidFill>
                  <a:srgbClr val="ffffff"/>
                </a:solidFill>
                <a:latin typeface="Arial"/>
              </a:rPr>
              <a:t>dial-up</a:t>
            </a:r>
            <a:r>
              <a:rPr b="0" lang="pl-PL" sz="1700" spc="-1" strike="noStrike">
                <a:solidFill>
                  <a:srgbClr val="ffffff"/>
                </a:solidFill>
                <a:latin typeface="Arial"/>
              </a:rPr>
              <a:t>), a szerokopasmowe łącza stałaby się konkurencją istniejącej już ISDN. Sytuacja zmieniła się w późnych latach 90., kiedy operatorzy sieci telewizji kablowych rozpoczęli kampanię marketingową na rzecz szerokopasmowego dostępu do Internetu. ILEC uświadamiając sobie, że większość klientów wybiera dostęp szerokopasmowy, pospieszyli z udostępnianiem technologii DSL.</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ffffff"/>
                </a:solidFill>
                <a:latin typeface="Franklin Gothic Book"/>
              </a:rPr>
              <a:t>DZIAŁANIE</a:t>
            </a:r>
            <a:endParaRPr b="0" lang="en-US" sz="4600" spc="-1" strike="noStrike">
              <a:solidFill>
                <a:srgbClr val="ffffff"/>
              </a:solidFill>
              <a:latin typeface="Franklin Gothic Book"/>
            </a:endParaRPr>
          </a:p>
        </p:txBody>
      </p:sp>
      <p:sp>
        <p:nvSpPr>
          <p:cNvPr id="264" name="pole tekstowe 3"/>
          <p:cNvSpPr/>
          <p:nvPr/>
        </p:nvSpPr>
        <p:spPr>
          <a:xfrm>
            <a:off x="0" y="1285920"/>
            <a:ext cx="9144000" cy="55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Arial"/>
              </a:rPr>
              <a:t>W lokalnych centralach telefonicznych mowa jest próbkowana z częstotliwością 8000 Hz, kodowana w formie 8-bitowego sygnału i przesyłana dalej w postaci strumienia danych 64 kb/s. Zgodnie z teorią Nyquista każdy sygnał powyżej 4000 Hz nie jest przepuszczany przez sieć telefoniczną.</a:t>
            </a:r>
            <a:endParaRPr b="0" lang="en-US" sz="17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Arial"/>
              </a:rPr>
              <a:t>Przyłącze lokalne łączące centralę telefoniczną z większością abonentów jest zdolne do przesyłania częstotliwości wyższych niż wynoszący 3,4 kHz limit POTS </a:t>
            </a:r>
            <a:r>
              <a:rPr b="0" lang="pl-PL" sz="1600" spc="-1" strike="noStrike">
                <a:solidFill>
                  <a:srgbClr val="ffffff"/>
                </a:solidFill>
                <a:latin typeface="Arial"/>
              </a:rPr>
              <a:t>(ang. </a:t>
            </a:r>
            <a:r>
              <a:rPr b="0" i="1" lang="pl-PL" sz="1600" spc="-1" strike="noStrike">
                <a:solidFill>
                  <a:srgbClr val="ffffff"/>
                </a:solidFill>
                <a:latin typeface="Arial"/>
              </a:rPr>
              <a:t>Plain Old Telephone Services</a:t>
            </a:r>
            <a:r>
              <a:rPr b="0" lang="pl-PL" sz="1600" spc="-1" strike="noStrike">
                <a:solidFill>
                  <a:srgbClr val="ffffff"/>
                </a:solidFill>
                <a:latin typeface="Arial"/>
              </a:rPr>
              <a:t>)</a:t>
            </a:r>
            <a:r>
              <a:rPr b="0" lang="pl-PL" sz="1700" spc="-1" strike="noStrike">
                <a:solidFill>
                  <a:srgbClr val="ffffff"/>
                </a:solidFill>
                <a:latin typeface="Arial"/>
              </a:rPr>
              <a:t>. Limit ten może być wyższy w zależności od odległości i jakości przyłącza. Technologia DSL wykorzystuje to wyższe, nieużywane pasmo przyłącza poprzez tworzenie kanałów, o szerokości 4312,5 Hz każdy, zaczynających się pomiędzy 10 a 100 kHz, w zależności od konfiguracji systemu. Przydział kanałów jest kontynuowany na wyższych i wyższych częstotliwościach (dla ADSL do 1,1 MHz) aż do czasu, gdy nowe kanały będą uznane za nienadające do użytku. Każdy kanał jest rozszerzony, aby nadawał się do użycia na więcej niż tylko jednej trasie, jak jest to w przypadku połączeń POTS. Więcej nadających się do użytku kanałów przyrównuje się do większego dostępnego pasma, dlatego ważnymi czynnikami są odległość i jakość linii. Pula nadających się do użycia kanałów jest rozdzielana na dwie grupy strumieni ruchu – wysyłania i odbierania – opartych na wstępnie skonfigurowanych proporcjach. W założonej grupie odrębne kanały są spajane w jedną parę cykli, każdy w innym kierunku. Podobnie jak analogowe modemy, nadajniki DSL stale monitorują jakość kanałów i w zależności od tego, czy dany kanał jest użyteczny, czy też nie, są one dodawane lub usuwan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ffffff"/>
                </a:solidFill>
                <a:latin typeface="Franklin Gothic Book"/>
              </a:rPr>
              <a:t>WYPOSAŻENIE</a:t>
            </a:r>
            <a:endParaRPr b="0" lang="en-US" sz="4600" spc="-1" strike="noStrike">
              <a:solidFill>
                <a:srgbClr val="ffffff"/>
              </a:solidFill>
              <a:latin typeface="Franklin Gothic Book"/>
            </a:endParaRPr>
          </a:p>
        </p:txBody>
      </p:sp>
      <p:sp>
        <p:nvSpPr>
          <p:cNvPr id="266" name="pole tekstowe 3"/>
          <p:cNvSpPr/>
          <p:nvPr/>
        </p:nvSpPr>
        <p:spPr>
          <a:xfrm>
            <a:off x="0" y="928800"/>
            <a:ext cx="914400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Abonent instaluje w lokalu modem DSL. Ten konwertuje dane z cyfrowego sygnału używanego przez komputery w sygnał napięcia zakresu nadającej częstotliwości, która jest następnie użyta w linii telefonicznej.</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W początkowych okresach działania usługi DSL instalacja wymagała wizyty technika w lokalu abonenta. Rozdzielacz sygnału (splitter) był instalowany blisko punktu rozgraniczenia, z którym instalowana była dedykowana linia. Dziś wielu dostawców DSL oferuje abonentowi zestaw - modem z instrukcjami do samodzielnego montażu. Do prawidłowego działania usługi wymagane jest wpięcie filtru DSL w każde gniazdo telefoniczne z wyjątkiem tego, do którego podłączony będzie modem. Filtr rozdziela pasmo na sygnał o częstotliwościach powyżej 4kHz, które trafiają do modemu oraz na sygnał o częstotliwości poniżej 4 kHz dla pozostałych urządzeń.</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W centrali telefonicznej sygnał jest również separowany. Sygnał cyfrowy kierowany jest do karty modemowej a następnie do multipleksera, który kończy cykle DSL sumując je i przekazuje do kolejnego transpor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7432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u="sng">
                <a:solidFill>
                  <a:srgbClr val="ffffff"/>
                </a:solidFill>
                <a:uFillTx/>
                <a:latin typeface="Franklin Gothic Book"/>
              </a:rPr>
              <a:t>X</a:t>
            </a:r>
            <a:r>
              <a:rPr b="1" lang="pl-PL" sz="4600" spc="-1" strike="noStrike">
                <a:solidFill>
                  <a:srgbClr val="ffffff"/>
                </a:solidFill>
                <a:latin typeface="Franklin Gothic Book"/>
              </a:rPr>
              <a:t>DSL</a:t>
            </a:r>
            <a:endParaRPr b="0" lang="en-US" sz="4600" spc="-1" strike="noStrike">
              <a:solidFill>
                <a:srgbClr val="ffffff"/>
              </a:solidFill>
              <a:latin typeface="Franklin Gothic Book"/>
            </a:endParaRPr>
          </a:p>
        </p:txBody>
      </p:sp>
      <p:sp>
        <p:nvSpPr>
          <p:cNvPr id="268" name=""/>
          <p:cNvSpPr txBox="1"/>
          <p:nvPr/>
        </p:nvSpPr>
        <p:spPr>
          <a:xfrm>
            <a:off x="0" y="3071520"/>
            <a:ext cx="9144000" cy="3786120"/>
          </a:xfrm>
          <a:prstGeom prst="rect">
            <a:avLst/>
          </a:prstGeom>
          <a:noFill/>
          <a:ln w="0">
            <a:noFill/>
          </a:ln>
        </p:spPr>
        <p:txBody>
          <a:bodyPr anchor="t">
            <a:normAutofit/>
          </a:bodyPr>
          <a:p>
            <a:pPr marL="419040" indent="-382680">
              <a:lnSpc>
                <a:spcPct val="15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ffffff"/>
                </a:solidFill>
                <a:latin typeface="Arial"/>
              </a:rPr>
              <a:t>podwyższonej przepływności HDSL (ang. </a:t>
            </a:r>
            <a:r>
              <a:rPr b="0" i="1" lang="pl-PL" sz="2100" spc="-1" strike="noStrike">
                <a:solidFill>
                  <a:srgbClr val="ffffff"/>
                </a:solidFill>
                <a:latin typeface="Arial"/>
              </a:rPr>
              <a:t>High Digital Subscriber Line </a:t>
            </a:r>
            <a:r>
              <a:rPr b="0" lang="pl-PL"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15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zintegrowan</a:t>
            </a:r>
            <a:r>
              <a:rPr b="0" lang="pl-PL" sz="2100" spc="-1" strike="noStrike">
                <a:solidFill>
                  <a:srgbClr val="ffffff"/>
                </a:solidFill>
                <a:latin typeface="Arial"/>
              </a:rPr>
              <a:t>a</a:t>
            </a:r>
            <a:r>
              <a:rPr b="0" lang="en-US" sz="2100" spc="-1" strike="noStrike">
                <a:solidFill>
                  <a:srgbClr val="ffffff"/>
                </a:solidFill>
                <a:latin typeface="Arial"/>
              </a:rPr>
              <a:t> IDSL </a:t>
            </a:r>
            <a:r>
              <a:rPr b="0" i="1" lang="en-US" sz="2100" spc="-1" strike="noStrike">
                <a:solidFill>
                  <a:srgbClr val="ffffff"/>
                </a:solidFill>
                <a:latin typeface="Arial"/>
              </a:rPr>
              <a:t>(ang. Integral DSL )</a:t>
            </a:r>
            <a:endParaRPr b="0" lang="en-US" sz="2100" spc="-1" strike="noStrike">
              <a:solidFill>
                <a:srgbClr val="ffffff"/>
              </a:solidFill>
              <a:latin typeface="Arial"/>
            </a:endParaRPr>
          </a:p>
          <a:p>
            <a:pPr marL="419040" indent="-382680">
              <a:lnSpc>
                <a:spcPct val="15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ffffff"/>
                </a:solidFill>
                <a:latin typeface="Arial"/>
              </a:rPr>
              <a:t>asymetryczna ADSL (ang. </a:t>
            </a:r>
            <a:r>
              <a:rPr b="0" i="1" lang="pl-PL" sz="2100" spc="-1" strike="noStrike">
                <a:solidFill>
                  <a:srgbClr val="ffffff"/>
                </a:solidFill>
                <a:latin typeface="Arial"/>
              </a:rPr>
              <a:t>Asymmetric DSL </a:t>
            </a:r>
            <a:r>
              <a:rPr b="0" lang="pl-PL"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15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ffffff"/>
                </a:solidFill>
                <a:latin typeface="Arial"/>
              </a:rPr>
              <a:t>symetryczna SDSL (ang. </a:t>
            </a:r>
            <a:r>
              <a:rPr b="0" i="1" lang="pl-PL" sz="2100" spc="-1" strike="noStrike">
                <a:solidFill>
                  <a:srgbClr val="ffffff"/>
                </a:solidFill>
                <a:latin typeface="Arial"/>
              </a:rPr>
              <a:t>Symmetric DSL </a:t>
            </a:r>
            <a:r>
              <a:rPr b="0" lang="pl-PL"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15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ffffff"/>
                </a:solidFill>
                <a:latin typeface="Arial"/>
              </a:rPr>
              <a:t>adaptacyjna RADSL (ang. </a:t>
            </a:r>
            <a:r>
              <a:rPr b="0" i="1" lang="pl-PL" sz="2100" spc="-1" strike="noStrike">
                <a:solidFill>
                  <a:srgbClr val="ffffff"/>
                </a:solidFill>
                <a:latin typeface="Arial"/>
              </a:rPr>
              <a:t>Rate Adaptive DSL </a:t>
            </a:r>
            <a:r>
              <a:rPr b="0" lang="pl-PL"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15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ffffff"/>
                </a:solidFill>
                <a:latin typeface="Arial"/>
              </a:rPr>
              <a:t>wysokiej przepływności VDSL (ang. </a:t>
            </a:r>
            <a:r>
              <a:rPr b="0" i="1" lang="pl-PL" sz="2100" spc="-1" strike="noStrike">
                <a:solidFill>
                  <a:srgbClr val="ffffff"/>
                </a:solidFill>
                <a:latin typeface="Arial"/>
              </a:rPr>
              <a:t>Very High Speed DSL </a:t>
            </a:r>
            <a:r>
              <a:rPr b="0" lang="pl-PL"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69" name="pole tekstowe 3"/>
          <p:cNvSpPr/>
          <p:nvPr/>
        </p:nvSpPr>
        <p:spPr>
          <a:xfrm>
            <a:off x="0" y="1571760"/>
            <a:ext cx="900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X</a:t>
            </a:r>
            <a:r>
              <a:rPr b="0" lang="pl-PL" sz="2400" spc="-1" strike="noStrike">
                <a:solidFill>
                  <a:srgbClr val="ffffff"/>
                </a:solidFill>
                <a:latin typeface="Arial"/>
              </a:rPr>
              <a:t>DSL to kilka odrębnych technologii zróżnicowanych pod względem szybkości działania w bezpośrednim otoczeniu abonen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0" name=""/>
          <p:cNvGraphicFramePr/>
          <p:nvPr/>
        </p:nvGraphicFramePr>
        <p:xfrm>
          <a:off x="0" y="0"/>
          <a:ext cx="9144000" cy="7070760"/>
        </p:xfrm>
        <a:graphic>
          <a:graphicData uri="http://schemas.openxmlformats.org/drawingml/2006/table">
            <a:tbl>
              <a:tblPr/>
              <a:tblGrid>
                <a:gridCol w="1523880"/>
                <a:gridCol w="1524240"/>
                <a:gridCol w="1523880"/>
                <a:gridCol w="1523880"/>
                <a:gridCol w="1524240"/>
                <a:gridCol w="1523880"/>
              </a:tblGrid>
              <a:tr h="426600">
                <a:tc rowSpan="2">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ea typeface="Times New Roman"/>
                        </a:rPr>
                        <a:t>Typ</a:t>
                      </a:r>
                      <a:endParaRPr b="0" lang="en-US" sz="1400" spc="-1" strike="noStrike">
                        <a:solidFill>
                          <a:srgbClr val="ffffff"/>
                        </a:solidFill>
                        <a:latin typeface="Arial"/>
                      </a:endParaRPr>
                    </a:p>
                  </a:txBody>
                  <a:tcPr anchor="ctr" marL="40320" marR="4032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ea typeface="Times New Roman"/>
                        </a:rPr>
                        <a:t>Typ</a:t>
                      </a:r>
                      <a:endParaRPr b="0" lang="en-US" sz="1400" spc="-1" strike="noStrike">
                        <a:solidFill>
                          <a:srgbClr val="ffffff"/>
                        </a:solidFill>
                        <a:latin typeface="Arial"/>
                      </a:endParaRPr>
                    </a:p>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ea typeface="Times New Roman"/>
                        </a:rPr>
                        <a:t>transmisji</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ea typeface="Times New Roman"/>
                        </a:rPr>
                        <a:t>Przepustowość</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ea typeface="Times New Roman"/>
                        </a:rPr>
                        <a:t>Medium transmisyjne</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ea typeface="Times New Roman"/>
                        </a:rPr>
                        <a:t>Max. długość łącza</a:t>
                      </a:r>
                      <a:endParaRPr b="0" lang="en-US" sz="1400" spc="-1" strike="noStrike">
                        <a:solidFill>
                          <a:srgbClr val="ffffff"/>
                        </a:solidFill>
                        <a:latin typeface="Arial"/>
                      </a:endParaRPr>
                    </a:p>
                  </a:txBody>
                  <a:tcPr anchor="ctr" marL="40320" marR="40320">
                    <a:lnL w="5760">
                      <a:solidFill>
                        <a:srgbClr val="000000"/>
                      </a:solidFill>
                    </a:lnL>
                    <a:lnR w="13680">
                      <a:solidFill>
                        <a:srgbClr val="000000"/>
                      </a:solidFill>
                    </a:lnR>
                    <a:lnT w="13680">
                      <a:solidFill>
                        <a:srgbClr val="000000"/>
                      </a:solidFill>
                    </a:lnT>
                    <a:lnB w="5760">
                      <a:solidFill>
                        <a:srgbClr val="000000"/>
                      </a:solidFill>
                    </a:lnB>
                    <a:noFill/>
                  </a:tcPr>
                </a:tc>
              </a:tr>
              <a:tr h="929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ea typeface="Times New Roman"/>
                        </a:rPr>
                        <a:t>Nadawanie</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ea typeface="Times New Roman"/>
                        </a:rPr>
                        <a:t>Odbiór</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600">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ea typeface="Times New Roman"/>
                        </a:rPr>
                        <a:t>IDSL (ISDN DSL)</a:t>
                      </a:r>
                      <a:endParaRPr b="0" lang="en-US" sz="1200" spc="-1" strike="noStrike">
                        <a:solidFill>
                          <a:srgbClr val="ffffff"/>
                        </a:solidFill>
                        <a:latin typeface="Arial"/>
                      </a:endParaRPr>
                    </a:p>
                  </a:txBody>
                  <a:tcPr anchor="ctr" marL="40320" marR="40320">
                    <a:lnL w="1368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Sym</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44 k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44 k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 para Cu</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1 km</a:t>
                      </a:r>
                      <a:endParaRPr b="0" lang="en-US" sz="1400" spc="-1" strike="noStrike">
                        <a:solidFill>
                          <a:srgbClr val="ffffff"/>
                        </a:solidFill>
                        <a:latin typeface="Arial"/>
                      </a:endParaRPr>
                    </a:p>
                  </a:txBody>
                  <a:tcPr anchor="ctr" marL="40320" marR="4032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DSL (Asymetric DSL)</a:t>
                      </a:r>
                      <a:endParaRPr b="0" lang="en-US" sz="1200" spc="-1" strike="noStrike">
                        <a:solidFill>
                          <a:srgbClr val="ffffff"/>
                        </a:solidFill>
                        <a:latin typeface="Arial"/>
                      </a:endParaRPr>
                    </a:p>
                  </a:txBody>
                  <a:tcPr anchor="ctr" marL="40320" marR="40320">
                    <a:lnL w="1368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Asym</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6 – 640 k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5 – 8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 para Cu</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6 km</a:t>
                      </a:r>
                      <a:endParaRPr b="0" lang="en-US" sz="1400" spc="-1" strike="noStrike">
                        <a:solidFill>
                          <a:srgbClr val="ffffff"/>
                        </a:solidFill>
                        <a:latin typeface="Arial"/>
                      </a:endParaRPr>
                    </a:p>
                  </a:txBody>
                  <a:tcPr anchor="ctr" marL="40320" marR="4032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ADSL (Rate Adaptive DSL)</a:t>
                      </a:r>
                      <a:endParaRPr b="0" lang="en-US" sz="1200" spc="-1" strike="noStrike">
                        <a:solidFill>
                          <a:srgbClr val="ffffff"/>
                        </a:solidFill>
                        <a:latin typeface="Arial"/>
                      </a:endParaRPr>
                    </a:p>
                  </a:txBody>
                  <a:tcPr anchor="ctr" marL="40320" marR="40320">
                    <a:lnL w="1368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Asym</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6 – 640 k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5 – 8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 para Cu</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6 km</a:t>
                      </a:r>
                      <a:endParaRPr b="0" lang="en-US" sz="1400" spc="-1" strike="noStrike">
                        <a:solidFill>
                          <a:srgbClr val="ffffff"/>
                        </a:solidFill>
                        <a:latin typeface="Arial"/>
                      </a:endParaRPr>
                    </a:p>
                  </a:txBody>
                  <a:tcPr anchor="ctr" marL="40320" marR="4032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DSL (High Bit Rate DSL)</a:t>
                      </a:r>
                      <a:endParaRPr b="0" lang="en-US" sz="1200" spc="-1" strike="noStrike">
                        <a:solidFill>
                          <a:srgbClr val="ffffff"/>
                        </a:solidFill>
                        <a:latin typeface="Arial"/>
                      </a:endParaRPr>
                    </a:p>
                  </a:txBody>
                  <a:tcPr anchor="ctr" marL="40320" marR="40320">
                    <a:lnL w="1368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Sym</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5 – 2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5 – 2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2 para Cu</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4 km</a:t>
                      </a:r>
                      <a:endParaRPr b="0" lang="en-US" sz="1400" spc="-1" strike="noStrike">
                        <a:solidFill>
                          <a:srgbClr val="ffffff"/>
                        </a:solidFill>
                        <a:latin typeface="Arial"/>
                      </a:endParaRPr>
                    </a:p>
                  </a:txBody>
                  <a:tcPr anchor="ctr" marL="40320" marR="4032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DSL – 2</a:t>
                      </a:r>
                      <a:endParaRPr b="0" lang="en-US" sz="1200" spc="-1" strike="noStrike">
                        <a:solidFill>
                          <a:srgbClr val="ffffff"/>
                        </a:solidFill>
                        <a:latin typeface="Arial"/>
                      </a:endParaRPr>
                    </a:p>
                  </a:txBody>
                  <a:tcPr anchor="ctr" marL="40320" marR="40320">
                    <a:lnL w="1368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Sym</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5 – 2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5 – 2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 para Cu</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4 km</a:t>
                      </a:r>
                      <a:endParaRPr b="0" lang="en-US" sz="1400" spc="-1" strike="noStrike">
                        <a:solidFill>
                          <a:srgbClr val="ffffff"/>
                        </a:solidFill>
                        <a:latin typeface="Arial"/>
                      </a:endParaRPr>
                    </a:p>
                  </a:txBody>
                  <a:tcPr anchor="ctr" marL="40320" marR="40320">
                    <a:lnL w="5760">
                      <a:solidFill>
                        <a:srgbClr val="000000"/>
                      </a:solidFill>
                    </a:lnL>
                    <a:lnR w="13680">
                      <a:solidFill>
                        <a:srgbClr val="000000"/>
                      </a:solidFill>
                    </a:lnR>
                    <a:lnT w="5760">
                      <a:solidFill>
                        <a:srgbClr val="000000"/>
                      </a:solidFill>
                    </a:lnT>
                    <a:lnB w="5760">
                      <a:solidFill>
                        <a:srgbClr val="000000"/>
                      </a:solidFill>
                    </a:lnB>
                    <a:noFill/>
                  </a:tcPr>
                </a:tc>
              </a:tr>
              <a:tr h="852840">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DSL (Symmetric DSL)</a:t>
                      </a:r>
                      <a:endParaRPr b="0" lang="en-US" sz="1200" spc="-1" strike="noStrike">
                        <a:solidFill>
                          <a:srgbClr val="ffffff"/>
                        </a:solidFill>
                        <a:latin typeface="Arial"/>
                      </a:endParaRPr>
                    </a:p>
                  </a:txBody>
                  <a:tcPr anchor="ctr" marL="40320" marR="40320">
                    <a:lnL w="1368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ym</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8 kbps – 2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8 kbps – 2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1 para Cu</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3 km</a:t>
                      </a:r>
                      <a:endParaRPr b="0" lang="en-US" sz="1400" spc="-1" strike="noStrike">
                        <a:solidFill>
                          <a:srgbClr val="ffffff"/>
                        </a:solidFill>
                        <a:latin typeface="Arial"/>
                      </a:endParaRPr>
                    </a:p>
                  </a:txBody>
                  <a:tcPr anchor="ctr" marL="40320" marR="40320">
                    <a:lnL w="5760">
                      <a:solidFill>
                        <a:srgbClr val="000000"/>
                      </a:solidFill>
                    </a:lnL>
                    <a:lnR w="13680">
                      <a:solidFill>
                        <a:srgbClr val="000000"/>
                      </a:solidFill>
                    </a:lnR>
                    <a:lnT w="5760">
                      <a:solidFill>
                        <a:srgbClr val="000000"/>
                      </a:solidFill>
                    </a:lnT>
                    <a:lnB w="5760">
                      <a:solidFill>
                        <a:srgbClr val="000000"/>
                      </a:solidFill>
                    </a:lnB>
                    <a:noFill/>
                  </a:tcPr>
                </a:tc>
              </a:tr>
              <a:tr h="852840">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VDSL (Very High Speed DSL)</a:t>
                      </a:r>
                      <a:endParaRPr b="0" lang="en-US" sz="1200" spc="-1" strike="noStrike">
                        <a:solidFill>
                          <a:srgbClr val="ffffff"/>
                        </a:solidFill>
                        <a:latin typeface="Arial"/>
                      </a:endParaRPr>
                    </a:p>
                  </a:txBody>
                  <a:tcPr anchor="ctr" marL="40320" marR="40320">
                    <a:lnL w="13680">
                      <a:solidFill>
                        <a:srgbClr val="000000"/>
                      </a:solidFill>
                    </a:lnL>
                    <a:lnR w="5760">
                      <a:solidFill>
                        <a:srgbClr val="000000"/>
                      </a:solidFill>
                    </a:lnR>
                    <a:lnT w="5760">
                      <a:solidFill>
                        <a:srgbClr val="000000"/>
                      </a:solidFill>
                    </a:lnT>
                    <a:lnB w="1368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sym</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1368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5-2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1368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3 – 52 Mbps</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1368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Przew. Cu lub światłowody</a:t>
                      </a:r>
                      <a:endParaRPr b="0" lang="en-US" sz="1400" spc="-1" strike="noStrike">
                        <a:solidFill>
                          <a:srgbClr val="ffffff"/>
                        </a:solidFill>
                        <a:latin typeface="Arial"/>
                      </a:endParaRPr>
                    </a:p>
                  </a:txBody>
                  <a:tcPr anchor="ctr" marL="40320" marR="40320">
                    <a:lnL w="5760">
                      <a:solidFill>
                        <a:srgbClr val="000000"/>
                      </a:solidFill>
                    </a:lnL>
                    <a:lnR w="5760">
                      <a:solidFill>
                        <a:srgbClr val="000000"/>
                      </a:solidFill>
                    </a:lnR>
                    <a:lnT w="5760">
                      <a:solidFill>
                        <a:srgbClr val="000000"/>
                      </a:solidFill>
                    </a:lnT>
                    <a:lnB w="13680">
                      <a:solidFill>
                        <a:srgbClr val="000000"/>
                      </a:solidFill>
                    </a:lnB>
                    <a:noFill/>
                  </a:tcPr>
                </a:tc>
                <a:tc>
                  <a:txBody>
                    <a:bodyPr lIns="40320" rIns="40320" tIns="0" bIns="0" anchor="ctr">
                      <a:noAutofit/>
                    </a:bodyPr>
                    <a:p>
                      <a:pPr marL="179280" algn="ctr">
                        <a:lnSpc>
                          <a:spcPct val="2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lt; 1,5 km</a:t>
                      </a:r>
                      <a:endParaRPr b="0" lang="en-US" sz="1400" spc="-1" strike="noStrike">
                        <a:solidFill>
                          <a:srgbClr val="ffffff"/>
                        </a:solidFill>
                        <a:latin typeface="Arial"/>
                      </a:endParaRPr>
                    </a:p>
                  </a:txBody>
                  <a:tcPr anchor="ctr" marL="40320" marR="40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8552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ffffff"/>
                </a:solidFill>
                <a:latin typeface="Franklin Gothic Book"/>
              </a:rPr>
              <a:t>ADSL</a:t>
            </a:r>
            <a:endParaRPr b="0" lang="en-US" sz="4600" spc="-1" strike="noStrike">
              <a:solidFill>
                <a:srgbClr val="ffffff"/>
              </a:solidFill>
              <a:latin typeface="Franklin Gothic Book"/>
            </a:endParaRPr>
          </a:p>
        </p:txBody>
      </p:sp>
      <p:sp>
        <p:nvSpPr>
          <p:cNvPr id="272" name="pole tekstowe 3"/>
          <p:cNvSpPr/>
          <p:nvPr/>
        </p:nvSpPr>
        <p:spPr>
          <a:xfrm>
            <a:off x="0" y="1071720"/>
            <a:ext cx="9144000" cy="60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Arial"/>
              </a:rPr>
              <a:t>Modem ADSL można sobie wyobrazić jako zespół wielu klasycznych modemów naraz, równocześnie transmitujących dane co daje większą odporność na zakłócenia. W wypadku występowania silnych zakłóceń w określonych pasmach częstotliwości transmisja jest spowalniana (bądź nawet całkowicie wyłączana!) jedynie w kanałach odpowiadających tym częstotliwościom, pozostałe kanały natomiast pracują bez zmian. Sumaryczne spowolnienie transmisji jest zatem o wiele mniejsze, niż gdyby odnosiło się ono do całego pojedynczego kanału. Ponieważ modem ADSL nie używa pasma 0-4 kHz, równocześnie z transmisją danych możliwe jest całkowicie niezależne wykorzystywanie na tej samej linii telefonu.</a:t>
            </a:r>
            <a:endParaRPr b="0" lang="en-US" sz="17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Arial"/>
              </a:rPr>
              <a:t> </a:t>
            </a:r>
            <a:endParaRPr b="0" lang="en-US" sz="17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ffffff"/>
                </a:solidFill>
                <a:latin typeface="Arial"/>
              </a:rPr>
              <a:t>Przyłączenie do linii modemu ADSL i telefonu odbywa się za pośrednictwem tzw. splitter. Jest to filtr odpowiedzialny z rozdzielenie pasma częstotliwości odbieranego sygnału: sygnał o częstotliwości poniżej 4 kHz trafia do telefonu, powyżej 4 kHz do modemu. Na wejściu centrali, analogiczny splitter niskie częstotliwości kieruje do jej części telefonicznej wysokie natomiast do modemu ADSL, a następnie do multipleksera (tzw. DSLAM), który to umożliwia dołączenie modemów do sieci transmisji danych. Korzystanie z ADSL wymaga od operatora telekomunikacyjnego działań w postaci doprowadzenia sieci transmisji danych centrali, a także wyposażenie linii w splitter i modem od strony centrali. Inwestycje wynikające z wdrożenia nowych technologii to główny powód ograniczający i hamujący rozwój tychże technologii. W przeciwieństwie do zwykłego modemu, ADSL nie może połączyć się z innym komputerem wyposażonym w modem analogowy, można to zrobić jedynie z sieci transmisji danych, do której przyłączona jest centrala i dostępne w niej serwery. </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6:29:39Z</dcterms:created>
  <dc:creator>Marzol</dc:creator>
  <dc:description/>
  <dc:language>en-US</dc:language>
  <cp:lastModifiedBy>Paweł</cp:lastModifiedBy>
  <dcterms:modified xsi:type="dcterms:W3CDTF">2010-02-18T08:57:13Z</dcterms:modified>
  <cp:revision>25</cp:revision>
  <dc:subject/>
  <dc:title>MODEMY CYFROWE (XDSL)</dc:title>
</cp:coreProperties>
</file>