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A96-718B-4936-A118-D4E7265D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964-69F1-4142-A57E-B94382E2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357-900A-4721-A1F7-3B39BD24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CFC-39A1-4B82-8196-6F2A2458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B96A-9A22-4208-8E32-2E4F5238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A91E-15C0-49DE-9923-3313A9C0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ABB5-2BCE-4FE5-8EA7-77EABC96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BF24-BB31-403F-BA06-81085FB7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FA7A-E292-4F57-931C-9E4C9CEE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70A9-A435-4C69-AD32-0B6B9793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34F4-7A37-4D81-8044-890C9C68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140-0561-46B8-9637-972175A2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27A0-AB73-4862-ACE5-8168558B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3B8C-362C-49E2-A52E-7515283F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5266-8FD0-4BE7-B18C-A71C8234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EF49-EE1D-4BB9-A4D6-64CA0855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55BB-5755-4E72-8275-C94741D2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B7ED4-1347-4F4E-97E4-5651373D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3340-6C97-4954-BB74-178237A2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A539-F430-43D6-BF6A-8367DE45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13CF-C725-4DA0-BF56-EDF99E42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D5CA-B76E-4745-8CE4-77695BA2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4A5-740B-479E-91F8-7B09FB42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1618-C10F-4948-840F-D0A706CC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3F4E-16DC-4D40-ADA4-1775B408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3AB9-E472-44C4-8394-2E71D2D8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A081-99F6-45A6-A7EA-9EEA3A8E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F4A29-C79B-4C3A-AAD4-6D76BD20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7CA7-4910-490B-88A2-09090F8E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914A-964D-4B4D-A2B9-0C06E176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47C58-8539-4BD7-ADC4-8ADE1CF8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5F01E-801C-4D71-8AB1-86D56EC6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5F6B-385E-4E24-BD21-AF845198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8C1-1E09-4CB7-AFDF-B01A0E82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35EC9-C248-4AA8-89B5-AE7A5D91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40A3-1388-43A4-B474-FEBD2307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EBD96-B3BD-4AC2-98BD-544EECAA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C2269-E12B-4831-A2E0-7BCA6231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98490-7348-42E2-8467-3CA22502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8E72A-C2C5-46D9-A709-77B241A2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1B205-B218-4F8B-B9B4-79BA0E08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0FEC-18AF-4951-97B0-CB6EE7B7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5B798-D6DB-4825-B27D-EE95160C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52253-2B82-466A-A176-8F371A44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1AA-FBE7-4998-A2E2-0F4E3743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9E1E3-B98A-42EE-8C45-56BDE9DD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D7491-0583-4ACE-B932-65CBC0FB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F7AB1-1537-489A-A593-3CF408E7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A73CF-29B9-401D-9573-A5CBBF29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6D1CC-9F3D-4BC0-B703-42A9BDB3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779FB-48BA-4CEC-9E7B-D99B1967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BA6A2-E38A-4108-9759-712A4469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08D7F-35A0-4AE8-9ED3-736BBB05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DF777-2E8B-44C6-A29A-08EECA49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AD46C-625D-4CA5-9CB1-EEE147E8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9AD-3650-41BD-AC84-CD6B66DA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E993B-A970-46D3-A6ED-C172A953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0EA3E-418D-44FC-8347-CDF0EED3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36FD5-7F81-40EE-A137-BB4D5D58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1B328-CE32-412B-8810-7C166A63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49677-2E46-440D-9AE1-01098E8E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6B0CF-36C1-4ACA-A693-FE00E05C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85D4E-21DF-4E33-81BC-4B8BF703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1A38A-4810-4396-9D87-EA03772E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22BE0-AFEB-40AA-BC9F-DB968E16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8E3FA-7306-41E2-A24F-988D3D3C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068-FB62-44E0-9DDD-EE644A39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2FA99-2A98-4942-BBB1-CEEC8972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232EE-EC92-43C9-9A10-DB72CB2B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9BB17-91E0-46F1-B4AC-26E04DDE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7A8-4F33-4A3C-BF58-C248B869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472-3531-4604-983F-F87DE327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Dowolny kształt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84C2-5A13-4889-8D79-BDB297BDC45F}" type="slidenum">
              <a:rPr b="0" lang="pl-PL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owolny kształt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Dowolny kształt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9D4F-B905-4B1B-95FB-C80BA5C22F39}" type="slidenum">
              <a:rPr b="0" lang="pl-PL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owolny kształt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Dowolny kształt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3074-9430-4241-90A4-75E9DC644CED}" type="slidenum">
              <a:rPr b="0" lang="pl-PL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5251-157A-4B3D-BB10-D66D1DD01978}" type="slidenum">
              <a:rPr b="0" lang="pl-PL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owolny kształt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Dowolny kształt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5597-AB55-40B7-A35A-E3223E9F1989}" type="slidenum">
              <a:rPr b="0" lang="pl-PL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2214-E909-47E7-B4DE-2B661E924A71}" type="slidenum">
              <a:rPr b="0" lang="pl-PL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57160" y="499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Franklin Gothic Book"/>
              </a:rPr>
              <a:t>WIDMO SYGNAŁO SINUSOIADLNEGO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ole tekstowe 3"/>
          <p:cNvSpPr/>
          <p:nvPr/>
        </p:nvSpPr>
        <p:spPr>
          <a:xfrm>
            <a:off x="0" y="2500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Podstawy i algorytmy przetwarzania sygnałó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Seminar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ole tekstowe 4"/>
          <p:cNvSpPr/>
          <p:nvPr/>
        </p:nvSpPr>
        <p:spPr>
          <a:xfrm>
            <a:off x="6357960" y="4500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konal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ole tekstowe 5"/>
          <p:cNvSpPr/>
          <p:nvPr/>
        </p:nvSpPr>
        <p:spPr>
          <a:xfrm>
            <a:off x="3249720" y="6000840"/>
            <a:ext cx="26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wiecień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600" spc="-1" strike="noStrike">
                <a:solidFill>
                  <a:srgbClr val="ffffff"/>
                </a:solidFill>
                <a:latin typeface="Franklin Gothic Book"/>
              </a:rPr>
              <a:t>WIDMO SYGNAŁU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ole tekstowe 3"/>
          <p:cNvSpPr/>
          <p:nvPr/>
        </p:nvSpPr>
        <p:spPr>
          <a:xfrm>
            <a:off x="0" y="1214280"/>
            <a:ext cx="914400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unkcja okresowa o okresie T rozłożona w szereg Fouriera zawiera składowe o częstotliwościach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..Wartości poszczególnych składowych są równe współ-czynnikom szeregu Fouriera. Układ współczynników odpowiadających poszczególnym częstotliwościom tworzy tzw. widmo częstotliwościowe. Istnieją więc dwa sposoby przedstawiania funkcji: w dziedzinie czasu i w dziedzinie częstotliwośc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przedstawienia funkcji w dziedzinie częstotliwości potrzebne są dwa widma: widmo amplitudowe i widmo fazow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idmo amplitudowe rzeczywistej funkcji okresowej jest symetryczne względem osi pionowej przechodzącej przez początek układu (jest to funkcja parzysta). Widmo fazowe jest funkcją symetryczną względem początku układu (funkcja nieparzyst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92869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Franklin Gothic Book"/>
              </a:rPr>
              <a:t>WIDMO AMPLITUDOWE I FAZOWE WYPROSTOWANEGO SYGNAŁU SINUSOIDALNEGO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8" name="Object 2"/>
          <p:cNvGraphicFramePr/>
          <p:nvPr/>
        </p:nvGraphicFramePr>
        <p:xfrm>
          <a:off x="2200320" y="1622520"/>
          <a:ext cx="474336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1622520"/>
                    <a:ext cx="474336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571680" y="4143240"/>
            <a:ext cx="8115120" cy="800280"/>
          </a:xfrm>
          <a:prstGeom prst="rect">
            <a:avLst/>
          </a:prstGeom>
          <a:ln w="0">
            <a:noFill/>
          </a:ln>
        </p:spPr>
      </p:pic>
      <p:sp>
        <p:nvSpPr>
          <p:cNvPr id="291" name="pole tekstowe 4"/>
          <p:cNvSpPr/>
          <p:nvPr/>
        </p:nvSpPr>
        <p:spPr>
          <a:xfrm>
            <a:off x="0" y="1785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Widmo sygnału może być zapisane w postaci biegunowej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ole tekstowe 3"/>
          <p:cNvSpPr/>
          <p:nvPr/>
        </p:nvSpPr>
        <p:spPr>
          <a:xfrm>
            <a:off x="1643040" y="4287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WIDMO AMPLITUDOW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ole tekstowe 4"/>
          <p:cNvSpPr/>
          <p:nvPr/>
        </p:nvSpPr>
        <p:spPr>
          <a:xfrm>
            <a:off x="2143080" y="22860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WIDMO FAZOW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643120" y="1214280"/>
            <a:ext cx="3819600" cy="723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2357280" y="3143160"/>
            <a:ext cx="4319640" cy="714600"/>
          </a:xfrm>
          <a:prstGeom prst="rect">
            <a:avLst/>
          </a:prstGeom>
          <a:ln w="0">
            <a:noFill/>
          </a:ln>
        </p:spPr>
      </p:pic>
      <p:sp>
        <p:nvSpPr>
          <p:cNvPr id="296" name="pole tekstowe 7"/>
          <p:cNvSpPr/>
          <p:nvPr/>
        </p:nvSpPr>
        <p:spPr>
          <a:xfrm>
            <a:off x="0" y="3929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idmo amplitudowe i widmo fazowe są rzeczywistymi charakterystykami sygnału i dla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≥ 0 mają wyraźną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nterpretacje fizyczna. Opisują one gęstość amplitudy i odpowiednio gęstość fazy elementarnych składowych harmonicznych sygnału w funkcji pulsacji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100" spc="-1" strike="noStrike">
                <a:solidFill>
                  <a:srgbClr val="ffffff"/>
                </a:solidFill>
                <a:latin typeface="Franklin Gothic Book"/>
              </a:rPr>
              <a:t>Podstawowe właściwości widm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7667640" cy="1214640"/>
          </a:xfrm>
          <a:prstGeom prst="rect">
            <a:avLst/>
          </a:prstGeom>
          <a:ln w="0">
            <a:noFill/>
          </a:ln>
        </p:spPr>
      </p:pic>
      <p:sp>
        <p:nvSpPr>
          <p:cNvPr id="299" name="pole tekstowe 4"/>
          <p:cNvSpPr/>
          <p:nvPr/>
        </p:nvSpPr>
        <p:spPr>
          <a:xfrm>
            <a:off x="0" y="40006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eśli sygnał jest parzysty, jego widmo jest rzeczywiste i parzyste Jeśli sygnał jest nieparzysty, widmo jest urojone i nieparzys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100" spc="-1" strike="noStrike">
                <a:solidFill>
                  <a:srgbClr val="ffffff"/>
                </a:solidFill>
                <a:latin typeface="Franklin Gothic Book"/>
              </a:rPr>
              <a:t>PRZYKŁADOWE WIDMO SYGNAŁU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1022400" y="2214720"/>
            <a:ext cx="709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100" spc="-1" strike="noStrike">
                <a:solidFill>
                  <a:srgbClr val="ffffff"/>
                </a:solidFill>
                <a:latin typeface="Franklin Gothic Book"/>
              </a:rPr>
              <a:t>Przebieg sinusoidalny i jego widmo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898560" y="1500120"/>
            <a:ext cx="7346880" cy="2722680"/>
          </a:xfrm>
          <a:prstGeom prst="rect">
            <a:avLst/>
          </a:prstGeom>
          <a:ln w="0">
            <a:noFill/>
          </a:ln>
        </p:spPr>
      </p:pic>
      <p:sp>
        <p:nvSpPr>
          <p:cNvPr id="304" name="pole tekstowe 4"/>
          <p:cNvSpPr/>
          <p:nvPr/>
        </p:nvSpPr>
        <p:spPr>
          <a:xfrm>
            <a:off x="0" y="430380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inus jest najprostszym i podstawowym rodzajem drgań. Jest również podstawowym kształtem fali wychodzącej z generatora przebiegów. Sinus jest tonem prostym, nie zawiera więc żadnych dodatkowych harmonicznych. Zmiana jednego z parametrów generatora przebiegów - częstotliwości generowanej fali - powoduje zmianę okresu funkcji sinus. Zwiększenie amplitudy powoduje zwiększenie maksimum i zmniejszenie minimum funkcji sinusoidalnej. Tak samo na zmianę tych parametrów reagują pozostałe funkcje podstawow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390680" y="0"/>
            <a:ext cx="6362640" cy="2357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/>
          <p:cNvPicPr/>
          <p:nvPr/>
        </p:nvPicPr>
        <p:blipFill>
          <a:blip r:embed="rId2"/>
          <a:stretch/>
        </p:blipFill>
        <p:spPr>
          <a:xfrm>
            <a:off x="1390680" y="4500720"/>
            <a:ext cx="6362640" cy="2357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3"/>
          <a:stretch/>
        </p:blipFill>
        <p:spPr>
          <a:xfrm>
            <a:off x="1390680" y="2286000"/>
            <a:ext cx="6362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ole tekstowe 3"/>
          <p:cNvSpPr/>
          <p:nvPr/>
        </p:nvSpPr>
        <p:spPr>
          <a:xfrm>
            <a:off x="0" y="25560"/>
            <a:ext cx="9144000" cy="63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FS = 100;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% częstotliwość sygnału [Hz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FP = 250;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% częstotliwość próbkowan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T = 0.1;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% przedział próbkowania [s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dt = 1/FP;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% okres próbkowan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t_samp = 0:dt:T;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% chwile w których pobierane są próbk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t_cont = 0:(1./(20*FS)):T;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% chwile próbkowania dla sygnału ,,ciągłego'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signalCont = sin (2*pi*FS*t_cont);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% sygnał ,,ciągły'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signalSamp = sin (2*pi*FS*t_samp);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% sygnał spróbkow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subplot(221); cl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title(['Przebieg czasowy sygnału sprobkowanego fs = : ',int2str(FS),', fp = ',int2str(FP)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xlabel('czas [s]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ylabel('amplituda'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% wykres sygnału ,,ciągłego'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plot(t_cont,signalCont,'b-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hold 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stem(t_samp,signalSam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hold o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legend('off'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ole tekstowe 4"/>
          <p:cNvSpPr/>
          <p:nvPr/>
        </p:nvSpPr>
        <p:spPr>
          <a:xfrm>
            <a:off x="0" y="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ubplot(222); cl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clg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title("Modul widma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xlabel("częstotliwość [Hz]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ylabel('Modul widma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grid('on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x = fft(signalSamp,FP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legend('off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ubplot(223); cl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clg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title("Rekonstrukcja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xlabel("czas [s]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ylabel('Amplituda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grid('on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plot(t_samp,real(ifft(X)),'b-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hold 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tem(t_samp,real(ifft(X)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hold o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legend('off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ubplot(224); cl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clg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title("Roznica przebiegu odtworzonego i sprobkowanego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xlabel("czas [s]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ylabel('Amplituda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grid('on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e = real(ifft(X)) - signalS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plot(t_samp,e,'r-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legend('off'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600" spc="-1" strike="noStrike">
                <a:solidFill>
                  <a:srgbClr val="ffffff"/>
                </a:solidFill>
                <a:latin typeface="Franklin Gothic Book"/>
              </a:rPr>
              <a:t>SYGNAŁ SINUSOIDALN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14240" y="3214440"/>
            <a:ext cx="74678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- amplituda sygna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ł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u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- cz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ę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sto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ść 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w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ł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asna sygna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ł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u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OpenSymbol"/>
                <a:ea typeface="Times New Roman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- przesuni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ę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cie fazowe sygna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ł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u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 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- czas (zmienna niezale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ż</a:t>
            </a:r>
            <a:r>
              <a:rPr b="0" lang="pl-PL" sz="30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na).</a:t>
            </a:r>
            <a:r>
              <a:rPr b="0" lang="pl-P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ole tekstowe 3"/>
          <p:cNvSpPr/>
          <p:nvPr/>
        </p:nvSpPr>
        <p:spPr>
          <a:xfrm>
            <a:off x="0" y="15001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Sygn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ł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sinusoidalny mo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ż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emy zdefiniow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ć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jako: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x(t)=A*sin(</a:t>
            </a:r>
            <a:r>
              <a:rPr b="0" lang="pl-PL" sz="32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t+</a:t>
            </a:r>
            <a:r>
              <a:rPr b="0" lang="pl-PL" sz="32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gdz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ole tekstowe 3"/>
          <p:cNvSpPr/>
          <p:nvPr/>
        </p:nvSpPr>
        <p:spPr>
          <a:xfrm>
            <a:off x="571680" y="64296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Z k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ż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dym przebiegiem sinusoidalnym zwi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ą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zane jest poj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ę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cie okre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ś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lane mianem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okresu drg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ń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. Zale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ż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no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ść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pomi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ę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dzy pulsacj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ą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, a okresem drga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ń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przedstawiono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poni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+1"/>
                <a:ea typeface="Times New Roman"/>
              </a:rPr>
              <a:t>ż</a:t>
            </a:r>
            <a:r>
              <a:rPr b="0" lang="pl-PL" sz="3200" spc="-1" strike="noStrike">
                <a:solidFill>
                  <a:srgbClr val="ffffff"/>
                </a:solidFill>
                <a:latin typeface="PalatinoLinotype-Roman"/>
                <a:ea typeface="Times New Roman"/>
              </a:rPr>
              <a:t>ej.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1228680" y="3500280"/>
                <a:ext cx="6686640" cy="29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100" spc="-1" strike="noStrike">
                <a:solidFill>
                  <a:srgbClr val="ffffff"/>
                </a:solidFill>
                <a:latin typeface="Franklin Gothic Book"/>
              </a:rPr>
              <a:t>WIELKOŚCI OPISUJĄCE PRZEBIEGI SINUSOIDALNE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599840"/>
            <a:ext cx="91440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artość maksymalna (amplituda)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zebiegu to największa wartość chwilowa, jaką przebieg osiąga w rozpatrywanym przedziale czasu (oznaczamy dużą literą z indeksem m)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artość średnia półokresow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przebiegu o okresie T to średnia arytmetyczna tego przebiegu dla połowy okresu.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0" y="4857840"/>
                <a:ext cx="421488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ś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4143240" y="4857840"/>
                <a:ext cx="500076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ś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37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100" spc="-1" strike="noStrike">
                <a:solidFill>
                  <a:srgbClr val="ffffff"/>
                </a:solidFill>
                <a:latin typeface="Franklin Gothic Book"/>
              </a:rPr>
              <a:t>WIELKOŚCI OPISUJĄCE PRZEBIEGI SINUSOIDALNE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85480" y="1856880"/>
            <a:ext cx="87152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artość skuteczna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o pierwiastek kwadratowy z wartości średniej kwadratu przebiegu obliczonej za jeden okres.</a:t>
            </a: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4500720" y="4071960"/>
                <a:ext cx="464328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0" y="4071960"/>
                <a:ext cx="450072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600" spc="-1" strike="noStrike">
                <a:solidFill>
                  <a:srgbClr val="ffffff"/>
                </a:solidFill>
                <a:latin typeface="Franklin Gothic Book"/>
              </a:rPr>
              <a:t>ENERGIA SYGNAŁU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857160" y="2357280"/>
                <a:ext cx="7620120" cy="318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Franklin Gothic Book"/>
              </a:rPr>
              <a:t>Trygonometryczny szereg Fouriera dla przebiegów okresowych ma postać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941400" y="1714680"/>
                <a:ext cx="7261200" cy="12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428760" y="3214800"/>
                <a:ext cx="35258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428760" y="4857840"/>
                <a:ext cx="35208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pole tekstowe 6"/>
          <p:cNvSpPr/>
          <p:nvPr/>
        </p:nvSpPr>
        <p:spPr>
          <a:xfrm>
            <a:off x="4643280" y="371484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spółczynniki widma parzyst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ole tekstowe 7"/>
          <p:cNvSpPr/>
          <p:nvPr/>
        </p:nvSpPr>
        <p:spPr>
          <a:xfrm>
            <a:off x="4643280" y="53578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spółczynniki widma nieparzyst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100" spc="-1" strike="noStrike">
                <a:solidFill>
                  <a:srgbClr val="ffffff"/>
                </a:solidFill>
                <a:latin typeface="Franklin Gothic Book"/>
              </a:rPr>
              <a:t>Amplituda i faza harmonicznej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106200" y="1928880"/>
                <a:ext cx="8931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k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k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pole tekstowe 4"/>
          <p:cNvSpPr/>
          <p:nvPr/>
        </p:nvSpPr>
        <p:spPr>
          <a:xfrm>
            <a:off x="571680" y="33577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dz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714240" y="4214880"/>
                <a:ext cx="32148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5786280" y="4357800"/>
                <a:ext cx="29545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16:18Z</dcterms:created>
  <dc:creator>Marzol</dc:creator>
  <dc:description/>
  <dc:language>en-US</dc:language>
  <cp:lastModifiedBy>Paweł</cp:lastModifiedBy>
  <dcterms:modified xsi:type="dcterms:W3CDTF">2010-02-18T08:43:24Z</dcterms:modified>
  <cp:revision>27</cp:revision>
  <dc:subject/>
  <dc:title>WIDMO SYGNAŁO SINUSOIADLNEGO</dc:title>
</cp:coreProperties>
</file>