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F9A-6CAB-4638-B2C4-2E73406B9A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C8B-4296-46CB-8288-544B16699BA7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07AB-194C-4F45-92FC-C3D0FA2B76E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56A-A61C-4C3B-9FB3-E49A4CFEBE4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723-D7BA-4E0B-A94B-C5F1791F6EC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110-8F5A-4B9C-9E36-4AE03C89DE5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2CB-03D1-48FC-A131-5A5910636B95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C9A4-DC1D-4C35-B6AB-32617495FAFD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CDB-F68B-477B-A51A-5E1D500AC50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326-64C7-4AF9-B1F5-5830FF2B1B4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D4D-DD57-4CD1-B8D2-DF61B7EC0C2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C1F-081C-4918-87AA-3BCA04A7CB6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5EBA-B3F4-4DB4-A70A-487516759089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B09B-DD00-4942-9777-E98DCEA70D5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91B-D8D8-4249-9262-B5F3A5DC0F93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13C-F55A-41E0-994F-E99774B7E3C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27F5-76A3-4CC7-9461-40FE8C475CFB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6CF-2C05-436D-84FD-6B3E84A3A7D8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877A-6F96-4295-A73D-7C28A5BF56F4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0DB4-0440-47DF-B27B-343F2F062F2B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AE7-86D5-4E11-A8A3-487F5EEC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9C6-E66F-4333-85D1-D0094E41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B40-B590-4031-B32A-0C27ADE9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DC2-6625-4279-903D-611844BC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F8D-FF49-4D68-9918-6423B8AB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4E2C-1038-4F41-A69C-12FBD59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425-12F8-41C5-B612-A784089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0C60-92F6-4EFE-ADCA-54557577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1FE-93A9-4F43-A4FA-9B334B0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B75-D730-4E42-A8CB-C3EF59F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F168-CA6D-402C-8931-B1F11A5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A42-26D6-4C22-8C0D-3158B01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F1E-BA1A-40AD-9618-762E924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9E1-4FEF-40DE-B144-A1B6091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C74E-B192-4791-9802-231B8757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954-8AF6-4D50-B7CD-E009A2DD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B3E0-0751-4DDF-93BE-CD373626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2BC-1400-4DBA-B4ED-2DB64389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A5B-36F3-473B-A5A0-3D835E24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B36-F68C-4A9E-987A-7779EC3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6AF-1D92-4361-A9B1-0F92A985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3BD-E385-4F29-A5DA-242448A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ED0-27E6-4E07-ACB2-E1E41F0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EA5-83D0-4F91-8B73-05034C8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2BA-BF67-454C-A69D-AFE115E174F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74B-A973-48E2-91C5-D917AADD619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ilkpedia.p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62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SYGNAŁ SINUSOIDALNY Z OBWIEDNIĄ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eminarium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dstawy i algorytmy przetwarzania sygnałó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ykonal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rzec 2008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Przykład obwiedni sygnału sinusoidalnego tłumioneg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Symbol zastępczy zawartości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Opis technichny obwiedn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Funkcja amplitudy w dziedzinie czas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to obwódka, którą można narysować łącząc wierzchołki graficznego obrazu widzianego np. na oscyloskop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bwiednia to jeden z parametrów sygnału, który bez niego w zasadzie nie istnie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 istocie obwiednia powstaje dopiero wtedy, gdy złoży się ze sobą dwa sygnały - np. z generatora przebiegów (oscylatora) i czegoś, co potocznie nazywane jest generatorem obwied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 programie zadajemy następujące zmienne: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op – opóźnie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gamma – parametr tłumi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 Narrow"/>
              </a:rPr>
              <a:t>cz – częstotliwoś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Program generujący sygnał sinusoidalny z obwiedni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Kod źródłowy program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function [f]=sinobw(N,op,gamma,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% N - dlugosc sygnalu w probk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% op - opoznienie pocza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% gamma - parametr tlumi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% cz - czestotliwo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z=7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=[0:0.001:2*pi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x=(t-0.5).*exp(-0.5*(t-0.5)).*sin(2*pi*cz*(t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lot(t,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ymbol zastępczy zawartości 3" descr="obwiednia6.bmp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y wykresu: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Opóźnienie=0,5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 tłumienia=0,4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Częstotliwośc=0,5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y wykresu: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Opóźnienie=0,5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 tłumienia=0,4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Częstotliwośc=1000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Symbol zastępczy zawartości 3" descr="obwiednia7.bmp"/>
          <p:cNvPicPr/>
          <p:nvPr/>
        </p:nvPicPr>
        <p:blipFill>
          <a:blip r:embed="rId1"/>
          <a:stretch/>
        </p:blipFill>
        <p:spPr>
          <a:xfrm>
            <a:off x="0" y="190008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y wykresu: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Opóźnienie=0,5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 tłumienia=0,4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Częstotliwośc=1000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Symbol zastępczy zawartości 3" descr="obwiednia8.bmp"/>
          <p:cNvPicPr/>
          <p:nvPr/>
        </p:nvPicPr>
        <p:blipFill>
          <a:blip r:embed="rId1"/>
          <a:stretch/>
        </p:blipFill>
        <p:spPr>
          <a:xfrm>
            <a:off x="45720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Symbol zastępczy zawartości 3" descr="obwiednia9.bmp"/>
          <p:cNvPicPr/>
          <p:nvPr/>
        </p:nvPicPr>
        <p:blipFill>
          <a:blip r:embed="rId1"/>
          <a:stretch/>
        </p:blipFill>
        <p:spPr>
          <a:xfrm>
            <a:off x="228600" y="1623960"/>
            <a:ext cx="8686800" cy="5234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y wykresu: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Opóźnienie=100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Parametr tłumienia=0,1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Arial"/>
              </a:rPr>
              <a:t>Częstotliwośc=10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Wnioski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Kształt wykresu zależy od zadanej wartości parametru part (parametr tłumienia) im wartość tego parametru jest większa tym wykres jest "mniejszy" i szybciej op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Wraz ze wzrostem częstotliwości kształt wykresu sie zmie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Parametr opóźnienie wpływa na rysowanie wykresu od początku układu współrzędnych większa wartość tego parametru przesuwa wykres w pra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Bibliografia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rzetwarzanie sygnałów” Jerzy Szabat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wilkpedia.p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gnał sinusoidalny</a:t>
            </a:r>
            <a:r>
              <a:rPr b="1" lang="pl-PL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inusoidalny mo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emy zdefiniow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ć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jako: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x(t)=A*sin(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t+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gdzi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amplituda 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OpenSymbol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cz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to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ć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w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asna 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OpenSymbol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przesun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cie fazowe 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czas (zmienna niezale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na).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70560" y="606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Z k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dym przebiegiem sinusoidalnym zw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ą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zane jest poj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cie okre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lane mianem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okresu drg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ń </a:t>
            </a:r>
            <a:r>
              <a:rPr b="0" i="1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. Zale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no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ć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om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dzy pulsacj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ą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, a okresem drg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ń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rzedstawiono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on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ej.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92904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038240" y="2819520"/>
                <a:ext cx="668664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Rys.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rzebieg 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 sinusoidalnego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98612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Wielkości opisujące przebiegi sinusoidalne:</a:t>
            </a:r>
            <a:br>
              <a:rPr sz="3200"/>
            </a:br>
            <a:r>
              <a:rPr b="0" i="1" lang="pl-PL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maksymalna (amplituda)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biegu to największa wartość chwilowa, jaką przebieg osiąga w rozpatrywanym przedziale czasu (oznaczamy dużą literą z indeksem m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średnia półokresow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zebiegu o okresie T to średnia arytmetyczna tego przebiegu dla połowy okresu.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88152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0" y="4292640"/>
                <a:ext cx="411480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ś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36194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343400" y="3962520"/>
                <a:ext cx="48006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ś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Wielkości opisujące przebiegi sinusoidalne</a:t>
            </a: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</a:rPr>
              <a:t> cd</a:t>
            </a:r>
            <a:r>
              <a:rPr b="1" lang="pl-PL" sz="32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rtość skuteczn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pierwiastek kwadratowy z wartości średniej kwadratu przebiegu obliczonej za jeden okres.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76236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380880" y="2438280"/>
                <a:ext cx="487692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Rectangle 7"/>
          <p:cNvSpPr/>
          <p:nvPr/>
        </p:nvSpPr>
        <p:spPr>
          <a:xfrm>
            <a:off x="35481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152280" y="4572000"/>
                <a:ext cx="708660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ffcc66"/>
                </a:solidFill>
                <a:latin typeface="Arial"/>
              </a:rPr>
              <a:t>Przykład sygnału sinusoidalnego z obwiednią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69560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5%"/>
          <p:cNvPicPr/>
          <p:nvPr/>
        </p:nvPicPr>
        <p:blipFill>
          <a:blip r:embed="rId1"/>
          <a:stretch/>
        </p:blipFill>
        <p:spPr>
          <a:xfrm>
            <a:off x="0" y="11826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Energia sygnału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838080" y="2514600"/>
                <a:ext cx="7620120" cy="31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cc66"/>
                </a:solidFill>
                <a:latin typeface="Arial"/>
              </a:rPr>
              <a:t>Obwiednia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wiedn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o matematyczne pojęcie z zakresu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geometrii różniczkowej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tyczące rodzin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krzywyc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Krzywą, która w każdym swym punkcie jest styczna do jakiejś krzywej z tej rodziny, nazywa się obwiednią tej rodzi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śli jednoparametrowa rodzina linii dana jest równaniem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, to równanie jej obwiedni otrzymuje się rugując 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 układu równań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i="1" lang="pl-PL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znacza pochodną cząstkową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0 względem parametru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rzykład obwiednią rodziny prostych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− 2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jest parabola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nalogicznie wyznacza się obwiednię rodziny powierzchni.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3:54:19Z</dcterms:created>
  <dc:creator>user</dc:creator>
  <dc:description/>
  <dc:language>en-US</dc:language>
  <cp:lastModifiedBy>Paweł</cp:lastModifiedBy>
  <dcterms:modified xsi:type="dcterms:W3CDTF">2010-02-18T08:43:08Z</dcterms:modified>
  <cp:revision>10</cp:revision>
  <dc:subject/>
  <dc:title>„SYGNAŁ SINUSOIDALNY Z OBWIEDNIĄ”</dc:title>
</cp:coreProperties>
</file>